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1B08-1B54-4117-BD45-0F55DF5C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991-22A5-4350-929C-221ACC0BC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243285-6C38-4CE8-B052-CD78C0380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06705E-5155-49C4-A012-CEFCEFE1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70909-48DA-402E-A7BC-BABA39658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FD74B4-D9EB-44D0-8868-DBCAE2C6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DAB92-E521-4F5A-A32F-CFF5A886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BB0A6-C120-4CF3-8837-E9435A69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5AF6E1-A2A9-43FF-9052-C026C7E3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00DC0-DD80-42C7-976A-792A62BD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9900E-A1BB-46E6-ABCB-15F17171D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9938-440E-4F24-BF73-1565CE9A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953-9540-4558-B7C5-BCBC66035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4D95-0D9D-4B21-AACF-BF82C1DA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E4CD-CFC8-44B9-90B6-26356419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2DF5-1DDB-488C-BF05-07A16CCD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AB921-8219-4E4E-9154-A87411ED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E919-C11F-402A-ABFA-BE535842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F4BAB-8FE3-4B0C-AD22-3D1CC70B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B0D2-AE54-4DCC-AD0E-51492477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B251-C786-4622-9D38-F4AA7916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D4FCF-C6C0-4A15-B67F-FB4AD7C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AAE7-8B84-444D-AC39-D90F7D1C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83281-D1F0-4BE8-8A19-D3890021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D627-BD91-44EC-AEE2-B3DA49D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D75-6D80-4A74-8A2F-5F9ACAE9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05543-BC5C-439F-ABFE-986745F57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C2AD3-4530-46CA-BEB5-AEFC2C5A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A4D05-011A-4A64-B469-4866BE3B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B3FF-C1BA-4FF1-947F-D3B6E8118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8336E-F021-4B7B-A1D5-97B664E3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1B7A-BDA4-47F7-A9F8-5452D43C6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DEEC3-BC57-4788-B1E0-2E412B54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8600-ADA6-4370-808C-AA85AA56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04A4E-F914-4710-8F6D-BF4375CE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EDC78-99A7-4C67-8EB6-52BC7A49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4CDA9-CD72-40AA-8867-E490C9AEF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0EE6A-0C05-4793-9C9D-A4F89F04A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4E34-142C-401C-B225-49CBD345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25A5-883B-435B-AA87-E57CDAD7E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FE23C-BF5D-4006-A255-0C6E8143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12396-8256-41E9-8E52-81479AB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9FDD-A389-4E76-AE00-73E9E259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7214B-406A-447D-A98F-1B56967B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E0A6-D548-41F7-A393-822F54B2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05DBC-8345-4F88-9CBB-55AF0876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3E53A-BBA1-4C8B-A224-23CA79C0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38D3F-878C-4EAF-9E0C-C8A3B496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2BF6C-21B9-4D4A-B74A-236D35D4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F7E23-C399-45EA-94D8-A6878AE0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379E9-C4BF-49C7-AE7E-F9040DAB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894C7-D10D-42FE-8C7C-8D084A129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5CEF-67A9-47FF-880F-1E222410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859-0BFA-48B7-8A6C-881EB00E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0B585-ABB3-436E-A7B0-160BD120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1BFC5-0225-49AE-A504-F310A1C0C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B7DC0-2220-44A6-A6F0-8FD568AB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B8FAF-FBA8-48C2-80A7-91151DE65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6FD3-C6C5-4E8A-9E47-402AEB5C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7C31F-E23F-4634-8C15-C141BE5B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A0A1E-9FD9-463C-B7D0-102D752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D7510-D829-44A1-B0A8-14FD12AA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28CDE-BFE4-44FB-9051-54FB838E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9970-1186-4AA1-BB3C-92F774784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D81-CE70-483C-B2C2-416E4D34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1F777-F221-48FD-8560-3F7FCDD7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BB515-286E-40D1-A623-78DEAD586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7FACE-AB09-4B4B-AD3F-66813E18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1585E-B549-480A-8F4F-FDF9B87A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4D274-20BF-4B9D-87F8-1B62E06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ECEC-E4BC-4507-8D68-0B1AA50A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894C4-A128-4473-8937-D75B3597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968D88-4D38-475A-B7BB-37C07BE7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C19177-4FBC-434D-8AF6-A18A381C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93D08-BDB4-4359-994A-3073D3E1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A215-0486-4EB4-B6F8-14ECD74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7C5C5-C0B1-4EC2-BEC3-F5DD105F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3E461-6335-44BB-A11B-B8CCD479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464F7-B898-4F77-A279-56E13743A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C3CF7-7F04-41F9-9143-9FC85D7A6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3B3E-080E-4140-BE7C-E46CA1B5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694B7-4CF1-4562-B102-A47B6A1D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14F94-292C-401C-91E1-F7DDAA1C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C3D2A-ACCC-4079-BA62-CF272568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68095-9934-41D7-B5EF-0402B94F1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47DED0-16D5-4E16-9B6B-A2813ABD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F63-631C-4D68-8D4B-854A4B2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3EE99-C445-40EB-889D-99775252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18ABF-E612-4C4B-8B53-CA149DE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40A90-A824-4E67-96B9-6C15D5BD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AA427B-BE01-40C4-963B-3329117B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7B5F7-C35F-4CB1-B833-4BA6B6350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83454-DE12-4481-B442-A52342E16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2D67A-F6EA-4DDE-8B35-9769F6BA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2517D-EBF5-4F27-91BA-A6FE9FA8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9D1DD-F99C-4C67-8ECC-85A90F22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A49D2-2636-4348-BFE3-05632B32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6490-DAC7-440B-9EBA-13A1C90B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EE5E4-5C37-4FD0-87F5-60400930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08CB0-C449-4EF0-B64F-229F014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53B0E-E107-4377-AEBB-2346318D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EFEEF-44C8-48C2-A6B6-925CDF47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D010-E1A2-48C3-B7B2-3562E332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80247-B52A-43E7-B99B-9656F832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507BE-0BE8-4B71-94AC-52FF9C8E3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7441F-ABBA-42A0-9331-B5F85D49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353CD-E09D-4D8C-B403-1F28C4B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A7B9D7-A512-48F9-B12B-C53039AD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A314-DA66-4BFD-B02F-1E91F9B642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2B79-3CA4-4FB6-BC07-8720109ABC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8544-9A18-4188-8D8E-FD109BA7F9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DFB5-5449-4D32-A960-5BC0DB5A78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D423-DCA5-4402-9B72-8E7DB725F7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CE09-E027-4C58-9E64-71D1DA7336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9603-ACDB-4412-9B8B-3BD05B996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8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9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90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1630-C0F0-450E-8E5E-489BE82C13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335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337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341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25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26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4BFB-DFC4-417E-A434-E5A26F54E9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Содержимое 9" descr="big.jpg"/>
          <p:cNvPicPr/>
          <p:nvPr/>
        </p:nvPicPr>
        <p:blipFill>
          <a:blip r:embed="rId2"/>
          <a:stretch/>
        </p:blipFill>
        <p:spPr>
          <a:xfrm>
            <a:off x="5364000" y="549360"/>
            <a:ext cx="293544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Домашнее задание 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по выбору</a:t>
            </a: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ru-RU" sz="42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Рассказать о лягушке с опорой на синквей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ить сказку на части и озаглави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идумайте другую концовку сказ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Всеволод Михайлович Гаршин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1855 - 1888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2771640" y="1700280"/>
            <a:ext cx="3567240" cy="4535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изнерадос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д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торож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юбопы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ж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вольная соб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ьная дух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естолюб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Лягушка-путешественница"/>
          <p:cNvPicPr/>
          <p:nvPr/>
        </p:nvPicPr>
        <p:blipFill>
          <a:blip r:embed="rId1"/>
          <a:stretch/>
        </p:blipFill>
        <p:spPr>
          <a:xfrm>
            <a:off x="5003640" y="1700280"/>
            <a:ext cx="3354480" cy="480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395800">
            <a:off x="3131640" y="162864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"/>
          <p:cNvSpPr/>
          <p:nvPr/>
        </p:nvSpPr>
        <p:spPr>
          <a:xfrm rot="19093800">
            <a:off x="5940360" y="1628280"/>
            <a:ext cx="576360" cy="1008360"/>
          </a:xfrm>
          <a:prstGeom prst="downArrow">
            <a:avLst>
              <a:gd name="adj1" fmla="val 50000"/>
              <a:gd name="adj2" fmla="val 437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Так выглядит первый и единственный в мире памятник путешественникам - Лягушка-путешественница."/>
          <p:cNvPicPr/>
          <p:nvPr/>
        </p:nvPicPr>
        <p:blipFill>
          <a:blip r:embed="rId1"/>
          <a:stretch/>
        </p:blipFill>
        <p:spPr>
          <a:xfrm>
            <a:off x="5867280" y="3141720"/>
            <a:ext cx="2473560" cy="3429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philosopher"/>
          <p:cNvPicPr/>
          <p:nvPr/>
        </p:nvPicPr>
        <p:blipFill>
          <a:blip r:embed="rId2"/>
          <a:stretch/>
        </p:blipFill>
        <p:spPr>
          <a:xfrm>
            <a:off x="1042920" y="3213000"/>
            <a:ext cx="4506840" cy="3380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думала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и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3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ссказ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вак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е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слажда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крич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жил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4788000" y="2492280"/>
            <a:ext cx="3514680" cy="23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обретательная  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2938800">
            <a:off x="2626920" y="1629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"/>
          <p:cNvSpPr/>
          <p:nvPr/>
        </p:nvSpPr>
        <p:spPr>
          <a:xfrm rot="18741600">
            <a:off x="6300000" y="162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/>
          <p:nvPr/>
        </p:nvSpPr>
        <p:spPr>
          <a:xfrm>
            <a:off x="1403280" y="39337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/>
          <p:nvPr/>
        </p:nvSpPr>
        <p:spPr>
          <a:xfrm>
            <a:off x="7308720" y="400536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"/>
          <p:cNvSpPr/>
          <p:nvPr/>
        </p:nvSpPr>
        <p:spPr>
          <a:xfrm>
            <a:off x="755640" y="335772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Уп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684360" y="2708280"/>
            <a:ext cx="799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183528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7164360" y="285264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400536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"/>
          <p:cNvSpPr/>
          <p:nvPr/>
        </p:nvSpPr>
        <p:spPr>
          <a:xfrm rot="5400000">
            <a:off x="4517280" y="4131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Лягушк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етательная                 Хвастли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думала            Полетела                Уп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вастовство может погубить меч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оре-путешествен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938800">
            <a:off x="2778480" y="1531080"/>
            <a:ext cx="276120" cy="623880"/>
          </a:xfrm>
          <a:prstGeom prst="downArrow">
            <a:avLst>
              <a:gd name="adj1" fmla="val 50000"/>
              <a:gd name="adj2" fmla="val 56486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/>
          <p:nvPr/>
        </p:nvSpPr>
        <p:spPr>
          <a:xfrm rot="18454200">
            <a:off x="6022800" y="1550880"/>
            <a:ext cx="238320" cy="647640"/>
          </a:xfrm>
          <a:prstGeom prst="downArrow">
            <a:avLst>
              <a:gd name="adj1" fmla="val 50000"/>
              <a:gd name="adj2" fmla="val 6793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/>
          <p:nvPr/>
        </p:nvSpPr>
        <p:spPr>
          <a:xfrm>
            <a:off x="684360" y="2565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"/>
          <p:cNvSpPr/>
          <p:nvPr/>
        </p:nvSpPr>
        <p:spPr>
          <a:xfrm>
            <a:off x="18352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4356000" y="2708280"/>
            <a:ext cx="5050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6877080" y="2708280"/>
            <a:ext cx="504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378936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 rot="5400000">
            <a:off x="4301280" y="406008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4941720"/>
            <a:ext cx="80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 rot="5400000">
            <a:off x="4301280" y="5139360"/>
            <a:ext cx="612720" cy="503280"/>
          </a:xfrm>
          <a:custGeom>
            <a:avLst/>
            <a:gdLst>
              <a:gd name="textAreaLeft" fmla="*/ 95760 w 612720"/>
              <a:gd name="textAreaRight" fmla="*/ 536400 w 612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6:07:21Z</dcterms:created>
  <dc:creator>Алексей</dc:creator>
  <dc:description/>
  <dc:language>en-US</dc:language>
  <cp:lastModifiedBy>User</cp:lastModifiedBy>
  <dcterms:modified xsi:type="dcterms:W3CDTF">2011-04-12T17:48:49Z</dcterms:modified>
  <cp:revision>24</cp:revision>
  <dc:subject/>
  <dc:title>Тема урока: «»</dc:title>
</cp:coreProperties>
</file>