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85E-E865-449D-9A8D-BA6E99D5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5A0-9B7A-4D9D-89E4-DF21D4FF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61C9C-ABB9-462F-AA5B-170136E9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A0025-ABD1-4DD3-B3DE-E5FE8CFE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AB612-6B46-4F55-A425-BDC3409F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BE478-E4F9-4007-B0C0-48274739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2C5B4-A3F1-43BB-B635-BA63E38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4F5CB-ABB2-4BD7-8008-900DAE5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CC64F-2B2D-4200-BD20-4ADC6D82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C8178-6C8A-462E-9D21-0A9CEC14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374A5-66A4-4D6A-9089-6CDF2BD9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105-56F2-4FDB-ADC9-6D4AACE4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A67-5DB0-4741-BAC6-C4E54996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0F63-D650-415E-A624-988A4F7A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7AB7-FC7C-40EA-B73E-A02EDBC3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42BA-0C51-4E0A-97C0-93A9CE78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E505-A080-4B2F-92AE-CAD5E1C2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43CB-FDED-4B1C-991A-F6C626F0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8F7C-F27D-46DC-8816-7E6DDEB0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687B-78C1-478B-BE4F-FD4AD27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D81-CFA3-44D2-BE55-C20046AB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753D-2EB4-4EC9-950C-291D80F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D43F-03B5-4C45-8B77-C4B51B7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4E3A-1BF5-4CB2-B1C3-A712FAB3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E70F-32E2-4A98-9AE9-1F601B87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F023-9348-4C04-A74D-775A93E5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56170-9848-47E9-AAEB-0BD01633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ADF8-8F1A-4A69-A90B-22B8646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A04F-B44E-4555-B5B5-D8B26EE2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8381-4AC4-419E-9FB5-5F334305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3634-A7AC-4ECA-BDC4-666822E5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A97-28F6-4F25-BF48-BF277BB8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CA8B-C374-4646-823B-DF776FE9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9014-DF2E-4B6D-A326-B98EED3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7960-D3A1-4FCA-8A06-7848BB4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6F40-4D29-49E3-A490-25B1C1FE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3AAF-EC0D-4AC2-81D7-19C1DA7E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8F12-2668-4BBA-A665-90FD42C7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E419-3616-460C-9890-39B3EA25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8AF2-7297-4AB9-B982-2ED6FC7C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FB99-3471-439D-9F2F-6476FB03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CC325-30FC-4A90-8B4E-55E5E35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A11-CCDB-4FB0-9815-6A4227A7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8C7C3-327D-4E50-8940-8A6DF67D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4175-4539-416A-B543-843AA03D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5A95-61BC-43D7-8FB5-1C14E8BE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FBEE-E006-4F6E-837F-1AAE63B7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D0F41-3AEB-41FB-985D-17A7318D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3AEB-5A8E-4180-B598-BC3EEAF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4A501-BCC4-445B-8373-13CFADC4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54343-60CF-48A1-A4A6-9FDBD851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31F4-BACC-478A-94CE-56364E3D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45984-5191-4520-80CF-BF1CBDA2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934-BA9E-45D1-A756-E8B4D21B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DC21F-4726-4AA3-8BD5-52217F6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A97CE-3E3C-4337-9CC3-70BB3953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DC522-CCDA-46FA-9872-64ADCD4F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0E54-9FC1-4E38-9E13-86BE3869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D762-BDFD-4CF8-9DF8-EBA6CA4C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DCC13-9CA8-4BB5-80FA-A461807D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39595-8E74-4744-82DF-C5EEF3A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D445-AFB0-4EC5-9019-692F918B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487A-A127-49B2-A366-78AD3AB8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7AE4E-5AB0-435E-A546-FBE67D85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842-F1C9-42DD-8A88-E0131251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33950-DEB8-453E-9DBC-070BFCAF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F122-3842-47FA-9484-ACA1588A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90E8-B252-4B83-B7B9-1DA8039C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9A8DD-36FB-47D0-8CE5-4B09251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63DD7-9153-4E09-8D4C-3B65F1C4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52DC8-B079-4CD6-92CB-5D1D90A6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1DC0-289D-4C44-B82B-C2808C8C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62E30-605C-4779-A4BE-1485007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2D65B-DE73-4C8C-B0A1-2DCF6D0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A1A59-B67E-4E63-B2D3-3DD524D9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E4D-0A25-4071-93B1-598F833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281CE-278D-498D-BF3A-B3A63A48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EA48-169A-4351-AACC-72B48D08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C1BDD-9597-43DB-89E6-B1DEE596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23170-D448-432D-BE6E-33739DE1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7488-6AF1-4925-BB57-8378C6BA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52F80-8C84-40D6-BD32-D7FFBD59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FC4C4-A9CF-4413-A3CE-383329A2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66DBA-19A2-4192-8978-DEF31B91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94BD5-6CC8-49B8-ACDC-8A85E0EB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6C4A7-25A2-41EF-A921-4D32BBEE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DB2-E781-4C36-BCFA-3FB06924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C860F-6C85-4ECE-8A23-3E80257C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FE29A-5EFF-4C16-A605-861AA705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B5A4-D815-4E07-ACA9-5857CC9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7ED51-6273-4225-AC3A-DF6030C7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5292F-5620-47B3-A5CD-3E2726D3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1DBC7-767C-4B2A-A51D-E33881F3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C752D-D607-4CB7-A851-494BECCE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32E02-4CD5-4942-B5DB-95B75AF7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CBD51-B746-4797-98B8-CE44E05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E4DBD-51B4-4FCC-8F7C-1311D398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091-5AAD-451A-91FD-F79EF04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37B16-5E13-4D5B-9828-9F22A034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B178C-1C3B-4B32-85C5-42ED378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51F70-A8F6-4507-BF61-B44A0D30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AFEF-72A0-4505-B04C-2A97EC5C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8CD39-FE3F-49A5-8402-1C25079E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ED3D0-B856-4A37-8DC8-454AECAA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19096-F0EE-476A-BC93-36C6E74C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5D3D-D6EF-4E80-BEB5-DD99DD00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2C521-0561-42CF-A025-70A6EF9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F9C49-4B92-4055-AF7C-C29D52D2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73E4-AFE9-40FF-AC74-8AAC370D7D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D54-88AC-4981-A57F-4F5A4FB40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0FC6-5849-46F0-94E7-9836BA20E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74FB-3C03-48F9-AE5D-E702F9034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A10-B8B1-4290-8B1D-4A7BBD3D3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4FBA-2D8D-4028-8BA8-EC3E8B86B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BA44-6EE2-4DF1-B6DB-19476F34F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9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289F-A857-46D8-A32E-70881B69CE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FBC-0727-4B83-9ED0-05227AEC5C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9" descr="big.jpg"/>
          <p:cNvPicPr/>
          <p:nvPr/>
        </p:nvPicPr>
        <p:blipFill>
          <a:blip r:embed="rId2"/>
          <a:stretch/>
        </p:blipFill>
        <p:spPr>
          <a:xfrm>
            <a:off x="5364000" y="549360"/>
            <a:ext cx="293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imes New Roman"/>
              </a:rPr>
              <a:t>Домашнее задание 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ru-RU" sz="4200" spc="-1" strike="noStrike">
                <a:solidFill>
                  <a:srgbClr val="ffff00"/>
                </a:solidFill>
                <a:latin typeface="Times New Roman"/>
              </a:rPr>
              <a:t>по выбору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ru-RU" sz="4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ссказать о лягушке с опорой на синквей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ить сказку на части и озаглав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думайте другую концовку сказ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севолод Михайлович Гаршин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855 - 1888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567240" cy="45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знерадо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д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оро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пы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жл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ет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ольная с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ьная ду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столюб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астл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Лягушка-путешественница"/>
          <p:cNvPicPr/>
          <p:nvPr/>
        </p:nvPicPr>
        <p:blipFill>
          <a:blip r:embed="rId1"/>
          <a:stretch/>
        </p:blipFill>
        <p:spPr>
          <a:xfrm>
            <a:off x="5003640" y="1700280"/>
            <a:ext cx="3354480" cy="480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етательная               Хвас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395800">
            <a:off x="3131640" y="1628640"/>
            <a:ext cx="576360" cy="1008360"/>
          </a:xfrm>
          <a:prstGeom prst="downArrow">
            <a:avLst>
              <a:gd name="adj1" fmla="val 50000"/>
              <a:gd name="adj2" fmla="val 437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 rot="19093800">
            <a:off x="5940360" y="1628280"/>
            <a:ext cx="576360" cy="1008360"/>
          </a:xfrm>
          <a:prstGeom prst="downArrow">
            <a:avLst>
              <a:gd name="adj1" fmla="val 50000"/>
              <a:gd name="adj2" fmla="val 437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5" descr="Так выглядит первый и единственный в мире памятник путешественникам - Лягушка-путешественница."/>
          <p:cNvPicPr/>
          <p:nvPr/>
        </p:nvPicPr>
        <p:blipFill>
          <a:blip r:embed="rId1"/>
          <a:stretch/>
        </p:blipFill>
        <p:spPr>
          <a:xfrm>
            <a:off x="5867280" y="3141720"/>
            <a:ext cx="2473560" cy="3429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philosopher"/>
          <p:cNvPicPr/>
          <p:nvPr/>
        </p:nvPicPr>
        <p:blipFill>
          <a:blip r:embed="rId2"/>
          <a:stretch/>
        </p:blipFill>
        <p:spPr>
          <a:xfrm>
            <a:off x="1042920" y="3213000"/>
            <a:ext cx="4506840" cy="33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умала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сказ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жд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дум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з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ва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лажд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и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514680" cy="23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етательная                   Хвас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ла            Полетела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2938800">
            <a:off x="2626920" y="162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 rot="18741600">
            <a:off x="6300000" y="16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39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/>
          <p:nvPr/>
        </p:nvSpPr>
        <p:spPr>
          <a:xfrm>
            <a:off x="4500720" y="39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400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335772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бретательная                 Хвас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думала            Полетела             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астовство может погубить меч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938800">
            <a:off x="2778480" y="1531080"/>
            <a:ext cx="276120" cy="623880"/>
          </a:xfrm>
          <a:prstGeom prst="downArrow">
            <a:avLst>
              <a:gd name="adj1" fmla="val 50000"/>
              <a:gd name="adj2" fmla="val 5648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 rot="18454200">
            <a:off x="6022800" y="1550880"/>
            <a:ext cx="238320" cy="647640"/>
          </a:xfrm>
          <a:prstGeom prst="downArrow">
            <a:avLst>
              <a:gd name="adj1" fmla="val 50000"/>
              <a:gd name="adj2" fmla="val 679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/>
          <p:nvPr/>
        </p:nvSpPr>
        <p:spPr>
          <a:xfrm>
            <a:off x="684360" y="2708280"/>
            <a:ext cx="799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1835280" y="2852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852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7164360" y="2852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400536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4517280" y="4131360"/>
            <a:ext cx="612720" cy="503280"/>
          </a:xfrm>
          <a:custGeom>
            <a:avLst/>
            <a:gdLst>
              <a:gd name="textAreaLeft" fmla="*/ 95760 w 612720"/>
              <a:gd name="textAreaRight" fmla="*/ 536400 w 6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етательная                 Хвастл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умала            Полетела                Уп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астовство может погубить меч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е-путеше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938800">
            <a:off x="2778480" y="1531080"/>
            <a:ext cx="276120" cy="623880"/>
          </a:xfrm>
          <a:prstGeom prst="downArrow">
            <a:avLst>
              <a:gd name="adj1" fmla="val 50000"/>
              <a:gd name="adj2" fmla="val 5648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 rot="18454200">
            <a:off x="6022800" y="1550880"/>
            <a:ext cx="238320" cy="647640"/>
          </a:xfrm>
          <a:prstGeom prst="downArrow">
            <a:avLst>
              <a:gd name="adj1" fmla="val 50000"/>
              <a:gd name="adj2" fmla="val 679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84360" y="2565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/>
          <p:nvPr/>
        </p:nvSpPr>
        <p:spPr>
          <a:xfrm>
            <a:off x="1835280" y="270828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>
            <a:off x="4356000" y="2708280"/>
            <a:ext cx="50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/>
          <p:nvPr/>
        </p:nvSpPr>
        <p:spPr>
          <a:xfrm>
            <a:off x="6877080" y="270828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3789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4301280" y="4060080"/>
            <a:ext cx="612720" cy="503280"/>
          </a:xfrm>
          <a:custGeom>
            <a:avLst/>
            <a:gdLst>
              <a:gd name="textAreaLeft" fmla="*/ 95760 w 612720"/>
              <a:gd name="textAreaRight" fmla="*/ 536400 w 6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/>
          <p:nvPr/>
        </p:nvSpPr>
        <p:spPr>
          <a:xfrm>
            <a:off x="611280" y="4941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 rot="5400000">
            <a:off x="4301280" y="5139360"/>
            <a:ext cx="612720" cy="503280"/>
          </a:xfrm>
          <a:custGeom>
            <a:avLst/>
            <a:gdLst>
              <a:gd name="textAreaLeft" fmla="*/ 95760 w 612720"/>
              <a:gd name="textAreaRight" fmla="*/ 536400 w 6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6:07:21Z</dcterms:created>
  <dc:creator>Алексей</dc:creator>
  <dc:description/>
  <dc:language>en-US</dc:language>
  <cp:lastModifiedBy>User</cp:lastModifiedBy>
  <dcterms:modified xsi:type="dcterms:W3CDTF">2011-04-12T17:48:49Z</dcterms:modified>
  <cp:revision>24</cp:revision>
  <dc:subject/>
  <dc:title>Тема урока: «»</dc:title>
</cp:coreProperties>
</file>