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A01-2C3E-4E73-9D1C-EFA2F4D1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E9C-90D2-4D38-AD10-A1ABBE1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BCFE3-3575-454A-A8EC-2C0C50A7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F7520-EA6B-44E7-82E5-9DCC72EA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CDFDB-BF59-4671-A91E-0C8D2284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33C8F-7B34-4733-8C3E-EB402C51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A3528-6C54-4A16-B415-CED23559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D54CB-6A85-4D36-A8F0-7639835A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C2E2B-2622-4D85-B92F-1D86945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6A5BE-A4CA-470F-9BA7-7A0D7803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3AA4B-2BD7-4642-B51C-1962956C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668-459A-480C-BA18-3623EE33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91B-302B-457A-ABDC-E9EB9E5B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867D-076E-442C-96E6-F68C8646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C9A5-95FC-4CBD-8D40-5E142A74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1140-94BC-4BD8-9CFD-53CED419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87B0-7E5A-4F5B-8DC6-4395CB5A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71AB-3184-48D5-8E13-BC4D1EBD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3F3D-66C6-40B0-8609-DB02CC6E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AF6B-D086-47D1-9710-9D71AB6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60D-2F62-4FAB-BC35-54C00EA0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C566-AB8A-4323-807E-B6ECD823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FA57-47D9-47A3-BA85-826AFB92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1419-428B-49C2-970C-2BBFBA97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0E3B-A7D8-4283-8D2C-79791FFC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54AF-5981-4FD0-87CB-F257DCCA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25B9-60C2-41AA-8A42-8F1E91E0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A280E-6759-4ABF-9ADD-39BFDEA8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2A60-2C2A-4D5F-94AD-11344D45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7FF58-E52E-409D-8916-C744584C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D73A-2835-4BFF-86D4-90814E78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E73-CE33-4EF4-A7FB-66379112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13650-F360-4F2A-929E-7AEE54B9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05AA-2586-461E-9911-8A4436D5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DD8F-F2D8-4F51-9626-34487B65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AEB9-627B-430B-8619-052D35C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3954-A7F1-46B3-B34B-1F49FB3A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D088-FC74-45C1-9EF0-688E5EDE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D44D-A7DF-4329-9194-77DCDB0E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F65ED-1C96-42A6-9DB7-403CDF92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23F06-0B57-49C6-824B-F876CDB1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9B1D-8858-4516-B820-89DB1B4A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4AE-0762-4663-912D-901ED3CF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54E9-C5F2-427D-9894-4F4A9CD3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373DA-0432-4E32-A6C7-CBE63B0A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1939-1863-4390-BF72-ABBB2531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5DCD-7899-4D94-91C3-38A052D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4276B-37F2-4852-A4C7-5FD66282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1EB9A-C3A5-4C86-8986-9DB0F384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30B6-78C4-4C66-BCB5-B8EACF85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44E11-E971-4971-8BE9-BCE78A9D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BE8F-C5CA-40CB-B859-FD61FB79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6DD5-CC19-45AF-864C-F8B0AB3C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EEC-6D91-4876-B6BA-E39EB574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033E-0286-4A5A-9710-BDC85495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5C341-E57B-4791-8745-ED75B74B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69C6F-6C99-4209-964C-AB577D5B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41956-47E8-406F-B77D-A2FF5276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AEA4-3EC0-47E1-AFBC-97581135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C7992-2284-4AB3-9184-AAB7BC99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74A1A-36D8-4B12-89BE-87512CF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FD1F6-0062-4D3F-83FD-2FEFE1EC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55CD7-DEAF-4382-894B-3ECF3085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D05E-0EB2-41A9-A815-BDAA771E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5D8-ED76-405D-B46C-D442B302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3076A-B8CD-451B-B962-6337BB4B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9DA7A-8356-4DB0-8F17-4097C8B0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3E436-A503-4B30-A7D0-4E5635F2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098B7-B78D-450E-9C23-EC75A4E3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09F49-7B56-4B43-AC80-D40E3A8A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25CDC-8A5C-4CC9-B728-14BB1223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EF76B-0BF1-4EE5-8329-5F572924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EE47F-7794-4A73-80D8-CCE16A05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6D5E3-A55E-42B0-AF8D-28ABED6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D934E-86E8-4475-9846-8139AB71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E92-1051-4C89-96E6-9BC2B8D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DE2E8-CAE1-40E8-9DC2-564A3D88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8DC60-F5BC-42F6-9982-B74823EF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54668-A12C-4B98-8D92-377FB8C7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BA5B7-2EEB-40F1-BB59-2213598B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C68FC-DDF8-45B7-B1B6-E846943D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19EC2-91F5-49BA-A9FA-FAE7A562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E462B-C913-4307-8787-A1AC9BC4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42978-0787-4FF9-A1A3-BDED8C1F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751B7-1547-4B22-8F59-DF732055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65532-0620-4ADD-88BC-EC1D995F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C00-9A34-41F6-AA98-8AD0C8AA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35BF4-3BF6-4F17-A544-A80A914C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3F4C7-DE3A-4CEE-8594-B8E03D5E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6137C-6DA6-490F-BCDD-3285A632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ADB00-EACE-4B2A-BC9D-F9B969E6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651D5-9ECC-45D3-AC44-3806F60B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8879B-91B8-4A1D-99B8-FD9FEAE4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4B7E8-8046-495F-85B0-AB509F6A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58C7E-A1C9-4837-9A67-E9017EF7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F5D0-C981-45FE-8D61-DB548BFC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3556B-A318-4AD4-BFCF-F4E70DA3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F88-0189-46D2-8139-35C872CC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8CD67-80D0-405E-83E2-91F187C4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70468-3D88-4BC0-9706-2CB9F01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47BB0-5D1E-432D-869F-D007EECF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1E686-209B-4CDD-AE9C-56EE1D9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C7D99-8425-42AD-A404-5EDC2BB9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7FFB9-2B9B-4BFE-8575-E398BB52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6D377-00ED-4035-8811-CDF13E92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27188-5353-4502-AD18-288AD4FC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92319-3194-4AA9-8146-2B302D80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28AB5-FF1B-4580-A38D-6C7AE92E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C7DE-898E-47F6-AF4F-B227C0E977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77F4-94DA-43B3-95D2-BB7352CEC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3CDE-84D6-4409-BDBB-863008EEB3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FDFA-2CF3-4099-9A48-91D2B285D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247D-823F-41B4-9515-0E425620C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B1A8-86D2-448C-892B-D98C33C26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1A07-DDB6-492F-A799-8B29B8905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9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EE12-0889-49F1-98D6-7A2249F36B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8641-58FD-42A1-9635-17B20F8141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9" descr="big.jpg"/>
          <p:cNvPicPr/>
          <p:nvPr/>
        </p:nvPicPr>
        <p:blipFill>
          <a:blip r:embed="rId2"/>
          <a:stretch/>
        </p:blipFill>
        <p:spPr>
          <a:xfrm>
            <a:off x="5364000" y="549360"/>
            <a:ext cx="293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imes New Roman"/>
              </a:rPr>
              <a:t>Домашнее задание 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ru-RU" sz="4200" spc="-1" strike="noStrike">
                <a:solidFill>
                  <a:srgbClr val="ffff00"/>
                </a:solidFill>
                <a:latin typeface="Times New Roman"/>
              </a:rPr>
              <a:t>по выбору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ru-RU" sz="4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ссказать о лягушке с опорой на синквей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делить сказку на части и озаглав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думайте другую концовку сказ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севолод Михайлович Гаршин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1855 - 1888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567240" cy="45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знерадо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д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оро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опы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жл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ет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вольная с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ьная ду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столюб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астл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Лягушка-путешественница"/>
          <p:cNvPicPr/>
          <p:nvPr/>
        </p:nvPicPr>
        <p:blipFill>
          <a:blip r:embed="rId1"/>
          <a:stretch/>
        </p:blipFill>
        <p:spPr>
          <a:xfrm>
            <a:off x="5003640" y="1700280"/>
            <a:ext cx="3354480" cy="480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етательная               Хвас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395800">
            <a:off x="3131640" y="1628640"/>
            <a:ext cx="576360" cy="1008360"/>
          </a:xfrm>
          <a:prstGeom prst="downArrow">
            <a:avLst>
              <a:gd name="adj1" fmla="val 50000"/>
              <a:gd name="adj2" fmla="val 437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/>
          <p:nvPr/>
        </p:nvSpPr>
        <p:spPr>
          <a:xfrm rot="19093800">
            <a:off x="5940360" y="1628280"/>
            <a:ext cx="576360" cy="1008360"/>
          </a:xfrm>
          <a:prstGeom prst="downArrow">
            <a:avLst>
              <a:gd name="adj1" fmla="val 50000"/>
              <a:gd name="adj2" fmla="val 437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5" descr="Так выглядит первый и единственный в мире памятник путешественникам - Лягушка-путешественница."/>
          <p:cNvPicPr/>
          <p:nvPr/>
        </p:nvPicPr>
        <p:blipFill>
          <a:blip r:embed="rId1"/>
          <a:stretch/>
        </p:blipFill>
        <p:spPr>
          <a:xfrm>
            <a:off x="5867280" y="3141720"/>
            <a:ext cx="2473560" cy="3429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philosopher"/>
          <p:cNvPicPr/>
          <p:nvPr/>
        </p:nvPicPr>
        <p:blipFill>
          <a:blip r:embed="rId2"/>
          <a:stretch/>
        </p:blipFill>
        <p:spPr>
          <a:xfrm>
            <a:off x="1042920" y="3213000"/>
            <a:ext cx="4506840" cy="33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думала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сказ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жд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дум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каз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ва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е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лажд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и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ж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514680" cy="23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етательная                   Хвас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ала            Полетела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2938800">
            <a:off x="2626920" y="162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 rot="18741600">
            <a:off x="6300000" y="16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39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/>
          <p:nvPr/>
        </p:nvSpPr>
        <p:spPr>
          <a:xfrm>
            <a:off x="4500720" y="39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4005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/>
          <p:nvPr/>
        </p:nvSpPr>
        <p:spPr>
          <a:xfrm>
            <a:off x="755640" y="335772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бретательная                 Хвас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думала            Полетела             У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астовство может погубить меч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938800">
            <a:off x="2778480" y="1531080"/>
            <a:ext cx="276120" cy="623880"/>
          </a:xfrm>
          <a:prstGeom prst="downArrow">
            <a:avLst>
              <a:gd name="adj1" fmla="val 50000"/>
              <a:gd name="adj2" fmla="val 5648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 rot="18454200">
            <a:off x="6022800" y="1550880"/>
            <a:ext cx="238320" cy="647640"/>
          </a:xfrm>
          <a:prstGeom prst="downArrow">
            <a:avLst>
              <a:gd name="adj1" fmla="val 50000"/>
              <a:gd name="adj2" fmla="val 679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/>
          <p:nvPr/>
        </p:nvSpPr>
        <p:spPr>
          <a:xfrm>
            <a:off x="684360" y="2708280"/>
            <a:ext cx="799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1835280" y="2852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2852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7164360" y="2852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/>
          <p:nvPr/>
        </p:nvSpPr>
        <p:spPr>
          <a:xfrm>
            <a:off x="684360" y="400536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4517280" y="4131360"/>
            <a:ext cx="612720" cy="503280"/>
          </a:xfrm>
          <a:custGeom>
            <a:avLst/>
            <a:gdLst>
              <a:gd name="textAreaLeft" fmla="*/ 95760 w 612720"/>
              <a:gd name="textAreaRight" fmla="*/ 536400 w 61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етательная                 Хвастл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думала            Полетела                Уп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астовство может погубить меч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е-путешествен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938800">
            <a:off x="2778480" y="1531080"/>
            <a:ext cx="276120" cy="623880"/>
          </a:xfrm>
          <a:prstGeom prst="downArrow">
            <a:avLst>
              <a:gd name="adj1" fmla="val 50000"/>
              <a:gd name="adj2" fmla="val 5648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 rot="18454200">
            <a:off x="6022800" y="1550880"/>
            <a:ext cx="238320" cy="647640"/>
          </a:xfrm>
          <a:prstGeom prst="downArrow">
            <a:avLst>
              <a:gd name="adj1" fmla="val 50000"/>
              <a:gd name="adj2" fmla="val 679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84360" y="2565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/>
          <p:nvPr/>
        </p:nvSpPr>
        <p:spPr>
          <a:xfrm>
            <a:off x="1835280" y="270828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/>
          <p:nvPr/>
        </p:nvSpPr>
        <p:spPr>
          <a:xfrm>
            <a:off x="4356000" y="2708280"/>
            <a:ext cx="50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/>
          <p:nvPr/>
        </p:nvSpPr>
        <p:spPr>
          <a:xfrm>
            <a:off x="6877080" y="270828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3789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4301280" y="4060080"/>
            <a:ext cx="612720" cy="503280"/>
          </a:xfrm>
          <a:custGeom>
            <a:avLst/>
            <a:gdLst>
              <a:gd name="textAreaLeft" fmla="*/ 95760 w 612720"/>
              <a:gd name="textAreaRight" fmla="*/ 536400 w 61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/>
          <p:nvPr/>
        </p:nvSpPr>
        <p:spPr>
          <a:xfrm>
            <a:off x="611280" y="4941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 rot="5400000">
            <a:off x="4301280" y="5139360"/>
            <a:ext cx="612720" cy="503280"/>
          </a:xfrm>
          <a:custGeom>
            <a:avLst/>
            <a:gdLst>
              <a:gd name="textAreaLeft" fmla="*/ 95760 w 612720"/>
              <a:gd name="textAreaRight" fmla="*/ 536400 w 61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6:07:21Z</dcterms:created>
  <dc:creator>Алексей</dc:creator>
  <dc:description/>
  <dc:language>en-US</dc:language>
  <cp:lastModifiedBy>User</cp:lastModifiedBy>
  <dcterms:modified xsi:type="dcterms:W3CDTF">2011-04-12T17:48:49Z</dcterms:modified>
  <cp:revision>24</cp:revision>
  <dc:subject/>
  <dc:title>Тема урока: «»</dc:title>
</cp:coreProperties>
</file>