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C5A-6331-4272-9C68-CFA6A0C4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F50-7594-4C9E-85F8-A2C1AD6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3593-5BA0-44DC-BABA-9AA6BFB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1B1BC-CE18-4879-B00F-BA7E54F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55981-93C1-4D65-9D70-7D86E41A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919F2-2B44-4845-BCAE-8B94EA33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3E82-06BA-4740-B806-C78AA0A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BED9-4E4E-4982-BA12-E0CE876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6437-D2FE-477F-8C28-1367E489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AEC90-F19D-40F6-8DD1-98BF79F0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ADF39-ED00-4466-92D3-CA058066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2784-8D40-4FC1-985E-38CFBDF6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F82-1C19-4CAD-A0A2-49FDFF72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0916-0DD8-43AB-B219-F972BD1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C430-F797-4B85-BDE0-8F89D9A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5407A-5A58-4676-9BDB-8E98847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ECE16-DD5C-4447-8C8B-8192B9AD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7AF58-DBE3-43F0-B29E-70456349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A51D5-B1EA-47A0-A12E-59D687F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5B841-B14C-4E4A-9B4E-FA43947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56253-5B57-4951-9951-D2B678D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D77DD-4429-4137-A91F-C838ED82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187DD-D8A3-4FBB-BDB1-695D91EA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53A-5289-4770-91B5-001B4785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C8CCA-04FE-45D8-BB7C-2511BA39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B6586-A393-40F0-B72C-CE5105E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D2B5E-7054-4FB9-B5BE-8CD5C3F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030A3-0C37-431D-9DFF-231C81EE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C497A-38D6-429E-91FB-B58E95BB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F489-8F63-4B57-BBAB-866D8B7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A506-1927-43DB-88CB-D3635244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5A2B2-0E00-4CB4-B1A6-B90AFAD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4A475-E66A-43D6-B5CC-7489CCE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12B07-CF57-4E55-8CA4-73311BB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845-B096-4C38-887E-A57ACCC1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84F2-24C5-4677-B9B5-5992DCBB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D7F0-BA6E-4006-AC0E-4380448D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88877-9C84-4EC2-8D48-CE25D223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2979D-4C46-4581-A72C-BA809E12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D0208-0682-4DB9-8D71-4770E1E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71FBC-7928-4343-9764-0631A26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E4751-8975-45D9-AD59-31B84351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C88AC-DD59-4CC4-A83F-46C86D48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CB2C4-7995-49D2-80D7-4F32C98D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0B21A-32F3-4243-926E-3543651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4E2-5D7E-48EB-8CFC-63CB988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F5F1E-1812-4BAF-8A24-76AD70D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688EC-0752-4062-8B51-7D41FBDF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65A28-419D-4268-B1CA-4413690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86F38-BF8F-4C35-AD16-1DFC1120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78153-8428-4F8E-8E48-EE978C79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F29D4A-CA75-449C-8D0C-603F49B55EB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ED9BB1-FC70-4334-BC21-1FD7FC1EF4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4ED97E-9FC1-44CD-AF39-EBEE29804B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F2C5AB-B012-42F4-A020-656E431D551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F8E446-75EF-4AFB-9C0D-5263CA2462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BF87-BDC2-4F10-A9B0-5E93F4D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6E22B2-46B5-415A-AB06-3E01860374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588AB-1F86-4A84-9658-211409E7DB5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7D76FC-CE23-48B6-B5B8-BF7495938A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6BE6A0-0DEC-42A0-8264-933A871592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D1267B-6DCE-4C60-B101-ADC38D3A44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D548C8-7ED8-4985-8639-BACD9FC97B8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1BD1CA-24DE-40DD-82AE-0271920106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759-E4F9-44A7-9957-C0F8CED8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E795-3F75-4491-88CD-51674111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ABC0-74A2-47EC-A905-0D5D3C3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4AAB-0233-4A38-8CDA-40593B47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B86-7639-4563-9ABE-FDC74D49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48E-362F-44BA-B506-DF9DE19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5DB-4F50-4A5C-8EA0-1DEC3DD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F51-4F31-44E1-9BED-0F49ADC3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074-BC05-46CE-A60C-EC2A93F6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D86-08E4-454A-B874-436044F6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139B-039A-439A-8C29-C2A8848E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554F-6F11-4116-BDF7-AD70D9C0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CEB4-8766-4F03-9161-1EBE781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8489-4465-492B-8B89-C7B3B6C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F47C-ACF5-4526-82AB-166893F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75C-0F6B-4C2B-91CA-D093A36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2F19-A69C-43A7-A728-3D988B5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9700-15DC-47D4-86D7-D2C8FBA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BC8C-6503-49B4-A77A-955E6A5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F130-362C-4245-84F6-52F99A1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6068-13CE-4039-AA88-28B30FB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C6C6-F679-4601-BFD5-FD136941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37A1-96DF-4CD2-AD14-749FC5A0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FAA0-780E-42E6-BF0B-5B35E68C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DD88-B99B-4B20-8583-9F748BF5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55A8-D4F6-474B-A174-C7559B9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FCE-6BC4-4407-ABE8-CC45BB52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E179-5514-4687-901F-5CAA612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D8C4-EDD0-412B-BE6D-EA15B28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0CD4-BEAD-4DDA-9AF1-BAEDDAF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96B3-E262-4F3E-B8F0-F030390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2024-1259-4D43-BCF6-4D56B8B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B377-89D4-4AAC-B72B-1067ACD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075B-18AE-42F3-BFA5-5C9891E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56EF-C6C2-4C0C-BC02-C3E84D65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161A-521B-4886-A376-65CEDEE9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A43E-40A9-4146-8C86-62F3CE34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6E9-D8A3-40C0-97F6-B726FD6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C5C1-A37A-495C-B601-B8F0F51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D72E-6CCE-40DA-8023-5C119BBB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A984-E981-42EE-AC68-8420B5F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23FF-4343-47E3-AF7C-7418EA0F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7D71-A9E1-46F2-8C82-F427F9EF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320D7-76D7-4B71-BE69-BE857ED2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4A84-FABF-40F2-8F8F-EC589F2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6B00-99EA-40D5-9512-9F3456C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2322-A7F2-45E1-BBC8-76580B51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82A1-BC35-47D0-87FC-97983ACC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9E0-3D93-4DE5-A96C-5FACB238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1297-18B3-4D14-97E1-23681F7B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4E159-C9F9-46E1-9CB0-770EA970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E9600-ABF6-4216-BC57-5E54EB3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8F24-CC60-4441-BD2E-A0F73408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24AC-1C86-440D-BF17-AA4361F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C908D-386F-49C9-A2CF-9100CC7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7CBF-17BE-451F-A3BD-452C805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17CA-7FFD-4745-898D-514A330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D9EE-4211-433A-A9A7-0B8DD56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40E0B-412C-4229-8BF5-55D9515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0A4-1B03-40FC-A43D-46F288B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EFE4-2286-40EC-8446-96CA32B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567D3-2687-48CF-8A82-0053F8FD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8D6E-9646-4AEF-8FE5-4FFB4EF9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E18E-19A5-465E-935A-54BB8F28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7D98-7941-4AD1-A501-75E250D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EF42-721E-49D4-8E14-6B279F06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8E5E-8BB7-44D3-8FDA-76D7ADB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4138-B710-4A31-9393-7D3D5B7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E600-B7EE-47F2-9F7B-6B35D847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BD25-36FF-4E96-BA1F-F0A3D4D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069-DB34-4019-841F-6090EC5B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DBF5A-30AE-4B2F-9BB7-55D4FAF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FF10-BAFA-40B1-8448-23A1692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EFDC-D328-4FFB-AD1E-1103CD1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0365-DCDF-4B0B-A708-F06F8CB3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7640-BAAF-4FF2-8804-0263252E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A6BB-8114-493C-A22C-907CA7C2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4C36-5D76-41B1-8E30-117CC2F7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AB17-17BA-44FF-8370-0D59610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5BFE8-A027-4323-953E-4BCB57EF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3DD8-5CCE-42B3-87E1-C2327CC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8E3-A039-471F-A8C7-6475520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C3B3E-D2EF-4719-98AE-1EA7C0AE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DD76-A2CB-4BA3-8AB3-1A1FC4E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F30A2-9F8A-4686-8E80-C1EBB59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6AF4-2308-4E21-8742-11CC235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454C-F5AA-4A6F-83BF-9A4098B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0F89-F007-4F05-865B-3A2E146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5293E-3126-464C-9FF0-D172BD12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7AA1-1E5E-4264-B54E-A325CC2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3B3DD-7539-4333-B007-95A20080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5FEB-D898-4CAC-B671-659F2751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CF8-1859-4951-AEEA-0DB7C5E28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916F-90F1-4184-A31C-3DD1C04C34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C9A-4653-477E-8712-1A458AF93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E9D-F27A-492C-B937-F465A4EE0C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37"/>
          </p:nvPr>
        </p:nvSpPr>
        <p:spPr>
          <a:xfrm>
            <a:off x="8520120" y="6275160"/>
            <a:ext cx="549360" cy="525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7FF3-E9C4-4455-B54F-18AD6DC153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9F8-2318-4758-AC74-A40B01DF8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EFD-8E2E-4638-A244-87F4CCF28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606-8D4F-449F-BD3C-D1D2D8FA41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B1D-1894-49E5-AA6F-06CD856B3A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71F-5C7E-4F4C-A3CC-7A8CDF480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866-D2E9-4EC0-8D2C-026FBAA390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A4A1-218A-4C3B-ABB6-9FF1C9D67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D46F-A034-42C9-8019-506B93A5CB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Shape 68" descr=""/>
          <p:cNvPicPr/>
          <p:nvPr/>
        </p:nvPicPr>
        <p:blipFill>
          <a:blip r:embed="rId1"/>
          <a:stretch/>
        </p:blipFill>
        <p:spPr>
          <a:xfrm>
            <a:off x="1200240" y="1170000"/>
            <a:ext cx="7785000" cy="26208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66840" y="5468760"/>
            <a:ext cx="72468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700" spc="-1" strike="noStrike">
              <a:solidFill>
                <a:srgbClr val="7e0f23"/>
              </a:solidFill>
              <a:latin typeface="Lucida Sans Unicode"/>
            </a:endParaRPr>
          </a:p>
        </p:txBody>
      </p:sp>
      <p:sp>
        <p:nvSpPr>
          <p:cNvPr id="605" name="Shape 71"/>
          <p:cNvSpPr/>
          <p:nvPr/>
        </p:nvSpPr>
        <p:spPr>
          <a:xfrm>
            <a:off x="954000" y="355680"/>
            <a:ext cx="815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Shape 225" descr=""/>
          <p:cNvPicPr/>
          <p:nvPr/>
        </p:nvPicPr>
        <p:blipFill>
          <a:blip r:embed="rId1"/>
          <a:stretch/>
        </p:blipFill>
        <p:spPr>
          <a:xfrm>
            <a:off x="933480" y="219240"/>
            <a:ext cx="8217000" cy="890280"/>
          </a:xfrm>
          <a:prstGeom prst="rect">
            <a:avLst/>
          </a:prstGeom>
          <a:ln w="0">
            <a:noFill/>
          </a:ln>
        </p:spPr>
      </p:pic>
      <p:sp>
        <p:nvSpPr>
          <p:cNvPr id="642" name="Shape 226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hape 227"/>
          <p:cNvSpPr/>
          <p:nvPr/>
        </p:nvSpPr>
        <p:spPr>
          <a:xfrm>
            <a:off x="0" y="54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hape 228"/>
          <p:cNvSpPr/>
          <p:nvPr/>
        </p:nvSpPr>
        <p:spPr>
          <a:xfrm>
            <a:off x="98280" y="1144440"/>
            <a:ext cx="90028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1. Обеспечить свободный выбор модуля в интересах кажд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2. Обеспечить  открытость механизма введения и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3. Обеспечить каждого ребенка У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4. Уделить особое внимание кадрам, от которых зависят эффекты введения да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5. Обеспечить методическое сопровождение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6. Обеспечить мониторинг изучения эффективности реализации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Shape 97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607" name="Shape 98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752840" cy="2303640"/>
          </a:xfrm>
          <a:prstGeom prst="rect">
            <a:avLst/>
          </a:prstGeom>
          <a:ln w="0">
            <a:noFill/>
          </a:ln>
        </p:spPr>
      </p:pic>
      <p:pic>
        <p:nvPicPr>
          <p:cNvPr id="608" name="Shape 99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609" name="Shape 100" descr=""/>
          <p:cNvPicPr/>
          <p:nvPr/>
        </p:nvPicPr>
        <p:blipFill>
          <a:blip r:embed="rId4"/>
          <a:stretch/>
        </p:blipFill>
        <p:spPr>
          <a:xfrm>
            <a:off x="243000" y="773280"/>
            <a:ext cx="145080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10" name="Shape 101"/>
          <p:cNvGrpSpPr/>
          <p:nvPr/>
        </p:nvGrpSpPr>
        <p:grpSpPr>
          <a:xfrm>
            <a:off x="1650960" y="235080"/>
            <a:ext cx="5412960" cy="3809520"/>
            <a:chOff x="1650960" y="235080"/>
            <a:chExt cx="5412960" cy="3809520"/>
          </a:xfrm>
        </p:grpSpPr>
        <p:pic>
          <p:nvPicPr>
            <p:cNvPr id="611" name="Shape 102" descr=""/>
            <p:cNvPicPr/>
            <p:nvPr/>
          </p:nvPicPr>
          <p:blipFill>
            <a:blip r:embed="rId5"/>
            <a:stretch/>
          </p:blipFill>
          <p:spPr>
            <a:xfrm>
              <a:off x="1650960" y="235080"/>
              <a:ext cx="523692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Shape 103"/>
            <p:cNvSpPr/>
            <p:nvPr/>
          </p:nvSpPr>
          <p:spPr>
            <a:xfrm>
              <a:off x="1827000" y="376200"/>
              <a:ext cx="523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Shape 104" descr=""/>
          <p:cNvPicPr/>
          <p:nvPr/>
        </p:nvPicPr>
        <p:blipFill>
          <a:blip r:embed="rId6"/>
          <a:stretch/>
        </p:blipFill>
        <p:spPr>
          <a:xfrm>
            <a:off x="6926400" y="484200"/>
            <a:ext cx="1796760" cy="2448000"/>
          </a:xfrm>
          <a:prstGeom prst="rect">
            <a:avLst/>
          </a:prstGeom>
          <a:ln w="0">
            <a:noFill/>
          </a:ln>
        </p:spPr>
      </p:pic>
      <p:pic>
        <p:nvPicPr>
          <p:cNvPr id="614" name="Shape 105" descr=""/>
          <p:cNvPicPr/>
          <p:nvPr/>
        </p:nvPicPr>
        <p:blipFill>
          <a:blip r:embed="rId7"/>
          <a:stretch/>
        </p:blipFill>
        <p:spPr>
          <a:xfrm>
            <a:off x="324000" y="3284640"/>
            <a:ext cx="1568160" cy="2160360"/>
          </a:xfrm>
          <a:prstGeom prst="rect">
            <a:avLst/>
          </a:prstGeom>
          <a:ln w="0">
            <a:noFill/>
          </a:ln>
        </p:spPr>
      </p:pic>
      <p:sp>
        <p:nvSpPr>
          <p:cNvPr id="615" name="Shape 106"/>
          <p:cNvSpPr/>
          <p:nvPr/>
        </p:nvSpPr>
        <p:spPr>
          <a:xfrm>
            <a:off x="2154240" y="568440"/>
            <a:ext cx="45720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урс «Основы религиозных культур и светской этики» включает в себя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моду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Основы православ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Основы мировых религиозных культ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Основы светской э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Основы ислам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Основы буддий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Основы иудей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Shape 11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617" name="Shape 114"/>
          <p:cNvSpPr/>
          <p:nvPr/>
        </p:nvSpPr>
        <p:spPr>
          <a:xfrm>
            <a:off x="909720" y="1876320"/>
            <a:ext cx="7777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7840" indent="-384480">
              <a:lnSpc>
                <a:spcPct val="100000"/>
              </a:lnSpc>
              <a:buClr>
                <a:srgbClr val="7e0f23"/>
              </a:buClr>
              <a:buSzPct val="80000"/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0f23"/>
                </a:solidFill>
                <a:latin typeface="Questrial"/>
                <a:ea typeface="Questrial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По месту в учебном плане и по содержанию курс ОРКСЭ служит важным связующим звеном между двумя этапами гуманитарного образования и воспитания школьник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дополняет обществоведческие аспекты предмета «Окружающий мир», с которым знакомятся учащиеся основной школ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предваряет начинающееся в 5 классе изучение предмета «История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Questria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Логическое продолжение курса ОРКСЭ учебный курс “Основы духовно-нравственной культуры народов России” на уровне основ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Shape 120" descr=""/>
          <p:cNvPicPr/>
          <p:nvPr/>
        </p:nvPicPr>
        <p:blipFill>
          <a:blip r:embed="rId1"/>
          <a:stretch/>
        </p:blipFill>
        <p:spPr>
          <a:xfrm>
            <a:off x="847800" y="42840"/>
            <a:ext cx="784548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риказ Минобрнауки России от 17.12.2010 № 1897 “Об утверждении федерального государственного образовательного стандарта основного общего образования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Изучение предметной области "Основы духовно-нравственной культуры народов России" должно обеспечить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воспитание способности к духовному развитию, нравственному самосовершенствованию; воспитание веротерпимости, уважительного отношения к религиозным чувствам, взглядам людей или их отсутствию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знание основных норм морали, нравственных, духовных идеалов, хранимых в культурных традициях народов России, готовность на их основе к сознательному самоограничению в поступках, поведении, расточительном потребительстве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основах светской этики, культуры традиционных религий, их роли в развитии культуры и истории России и человечества, в становлении гражданского общества и российской государственности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онимание значения нравственности, веры и религии в жизни человека, семьи и общества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исторической роли традиционных религий и гражданского общества в становлении российской государственност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Shape 127" descr=""/>
          <p:cNvPicPr/>
          <p:nvPr/>
        </p:nvPicPr>
        <p:blipFill>
          <a:blip r:embed="rId1"/>
          <a:stretch/>
        </p:blipFill>
        <p:spPr>
          <a:xfrm>
            <a:off x="847800" y="-92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Shape 168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8906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205920" y="1041480"/>
            <a:ext cx="8937720" cy="84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411480" indent="-285480">
              <a:lnSpc>
                <a:spcPct val="115000"/>
              </a:lnSpc>
              <a:buClr>
                <a:srgbClr val="7e0f2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Lucida Sans Unicode"/>
              </a:rPr>
              <a:t>21 января 2015 года утвержден региональный ПЛАН </a:t>
            </a: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мероприятий по обеспечению свободного, добровольного, информированного выбора модулей комплексного учебного курса «Основы религиозных культур и светской этики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1200" y="1876320"/>
          <a:ext cx="8707680" cy="4807080"/>
        </p:xfrm>
        <a:graphic>
          <a:graphicData uri="http://schemas.openxmlformats.org/drawingml/2006/table">
            <a:tbl>
              <a:tblPr/>
              <a:tblGrid>
                <a:gridCol w="480960"/>
                <a:gridCol w="1451160"/>
                <a:gridCol w="1793880"/>
                <a:gridCol w="2500200"/>
                <a:gridCol w="2481480"/>
              </a:tblGrid>
              <a:tr h="365400"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редителя образовательной организации / Муницип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разовательн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знакомлению с содержанием моду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го учебного курса ОРКСЭ участников образовательных отно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регион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территори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дополнительного раздела на официальном сайте ОО по вопросам реализации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ых сайтах МОУО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проведении презентационные мероприятий о содержании и организации реализации комплексного учебного курса ОРКСЭ в муниципальных 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онные открытые уроки по модуля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Shape 183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1176120"/>
          </a:xfrm>
          <a:prstGeom prst="rect">
            <a:avLst/>
          </a:prstGeom>
          <a:ln w="0">
            <a:noFill/>
          </a:ln>
        </p:spPr>
      </p:pic>
      <p:pic>
        <p:nvPicPr>
          <p:cNvPr id="626" name="Shape 184" descr=""/>
          <p:cNvPicPr/>
          <p:nvPr/>
        </p:nvPicPr>
        <p:blipFill>
          <a:blip r:embed="rId2"/>
          <a:stretch/>
        </p:blipFill>
        <p:spPr>
          <a:xfrm>
            <a:off x="403200" y="1076400"/>
            <a:ext cx="7267680" cy="55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Shape 190" descr=""/>
          <p:cNvPicPr/>
          <p:nvPr/>
        </p:nvPicPr>
        <p:blipFill>
          <a:blip r:embed="rId1"/>
          <a:stretch/>
        </p:blipFill>
        <p:spPr>
          <a:xfrm>
            <a:off x="1305000" y="208080"/>
            <a:ext cx="7845480" cy="474480"/>
          </a:xfrm>
          <a:prstGeom prst="rect">
            <a:avLst/>
          </a:prstGeom>
          <a:ln w="0">
            <a:noFill/>
          </a:ln>
        </p:spPr>
      </p:pic>
      <p:sp>
        <p:nvSpPr>
          <p:cNvPr id="628" name="Shape 191"/>
          <p:cNvSpPr/>
          <p:nvPr/>
        </p:nvSpPr>
        <p:spPr>
          <a:xfrm>
            <a:off x="68400" y="674640"/>
            <a:ext cx="893736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щеобразова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живающих(его) по адрес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родители (законные представители) учащегося ______ «____» класса __________________________(Ф.И. ребёнка), из предлагаемых на выбор модулей комплексного учебного курса «Основы религиозных культур и светской этик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православн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слам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уддий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удейской культу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мировых религиозных культур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светской э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для своего ребёнка изучение модуля: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«___» _________________ 20___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Shape 208" descr=""/>
          <p:cNvPicPr/>
          <p:nvPr/>
        </p:nvPicPr>
        <p:blipFill>
          <a:blip r:embed="rId1"/>
          <a:stretch/>
        </p:blipFill>
        <p:spPr>
          <a:xfrm rot="538800">
            <a:off x="5614560" y="891720"/>
            <a:ext cx="1249560" cy="19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0" name="Shape 209" descr=""/>
          <p:cNvPicPr/>
          <p:nvPr/>
        </p:nvPicPr>
        <p:blipFill>
          <a:blip r:embed="rId2"/>
          <a:stretch/>
        </p:blipFill>
        <p:spPr>
          <a:xfrm rot="127800">
            <a:off x="4215960" y="830160"/>
            <a:ext cx="127944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1" name="Shape 210" descr=""/>
          <p:cNvPicPr/>
          <p:nvPr/>
        </p:nvPicPr>
        <p:blipFill>
          <a:blip r:embed="rId3"/>
          <a:srcRect l="7496" t="0" r="5001" b="2089"/>
          <a:stretch/>
        </p:blipFill>
        <p:spPr>
          <a:xfrm rot="764400">
            <a:off x="6948360" y="1182240"/>
            <a:ext cx="1555920" cy="1989360"/>
          </a:xfrm>
          <a:prstGeom prst="rect">
            <a:avLst/>
          </a:prstGeom>
          <a:ln w="0">
            <a:noFill/>
          </a:ln>
        </p:spPr>
      </p:pic>
      <p:pic>
        <p:nvPicPr>
          <p:cNvPr id="632" name="Shape 211" descr=""/>
          <p:cNvPicPr/>
          <p:nvPr/>
        </p:nvPicPr>
        <p:blipFill>
          <a:blip r:embed="rId4"/>
          <a:stretch/>
        </p:blipFill>
        <p:spPr>
          <a:xfrm rot="21352800">
            <a:off x="2827440" y="863640"/>
            <a:ext cx="1384200" cy="1835280"/>
          </a:xfrm>
          <a:prstGeom prst="rect">
            <a:avLst/>
          </a:prstGeom>
          <a:ln w="0">
            <a:noFill/>
          </a:ln>
        </p:spPr>
      </p:pic>
      <p:pic>
        <p:nvPicPr>
          <p:cNvPr id="633" name="Shape 212" descr=""/>
          <p:cNvPicPr/>
          <p:nvPr/>
        </p:nvPicPr>
        <p:blipFill>
          <a:blip r:embed="rId5"/>
          <a:stretch/>
        </p:blipFill>
        <p:spPr>
          <a:xfrm rot="20995800">
            <a:off x="1487160" y="985320"/>
            <a:ext cx="1384200" cy="1887840"/>
          </a:xfrm>
          <a:prstGeom prst="rect">
            <a:avLst/>
          </a:prstGeom>
          <a:ln w="0">
            <a:noFill/>
          </a:ln>
        </p:spPr>
      </p:pic>
      <p:pic>
        <p:nvPicPr>
          <p:cNvPr id="634" name="Shape 213" descr=""/>
          <p:cNvPicPr/>
          <p:nvPr/>
        </p:nvPicPr>
        <p:blipFill>
          <a:blip r:embed="rId6"/>
          <a:stretch/>
        </p:blipFill>
        <p:spPr>
          <a:xfrm rot="20064600">
            <a:off x="307440" y="1643040"/>
            <a:ext cx="1384560" cy="1814400"/>
          </a:xfrm>
          <a:prstGeom prst="rect">
            <a:avLst/>
          </a:prstGeom>
          <a:ln w="0">
            <a:noFill/>
          </a:ln>
        </p:spPr>
      </p:pic>
      <p:pic>
        <p:nvPicPr>
          <p:cNvPr id="635" name="Shape 214" descr=""/>
          <p:cNvPicPr/>
          <p:nvPr/>
        </p:nvPicPr>
        <p:blipFill>
          <a:blip r:embed="rId7"/>
          <a:stretch/>
        </p:blipFill>
        <p:spPr>
          <a:xfrm rot="20019600">
            <a:off x="320400" y="3177720"/>
            <a:ext cx="1317600" cy="1755720"/>
          </a:xfrm>
          <a:prstGeom prst="rect">
            <a:avLst/>
          </a:prstGeom>
          <a:ln w="0">
            <a:noFill/>
          </a:ln>
        </p:spPr>
      </p:pic>
      <p:pic>
        <p:nvPicPr>
          <p:cNvPr id="636" name="Shape 215" descr=""/>
          <p:cNvPicPr/>
          <p:nvPr/>
        </p:nvPicPr>
        <p:blipFill>
          <a:blip r:embed="rId8"/>
          <a:stretch/>
        </p:blipFill>
        <p:spPr>
          <a:xfrm>
            <a:off x="1305000" y="208080"/>
            <a:ext cx="7845480" cy="779400"/>
          </a:xfrm>
          <a:prstGeom prst="rect">
            <a:avLst/>
          </a:prstGeom>
          <a:ln w="0">
            <a:noFill/>
          </a:ln>
        </p:spPr>
      </p:pic>
      <p:pic>
        <p:nvPicPr>
          <p:cNvPr id="637" name="Shape 217" descr=""/>
          <p:cNvPicPr/>
          <p:nvPr/>
        </p:nvPicPr>
        <p:blipFill>
          <a:blip r:embed="rId9"/>
          <a:stretch/>
        </p:blipFill>
        <p:spPr>
          <a:xfrm rot="825600">
            <a:off x="7195680" y="2400480"/>
            <a:ext cx="1735200" cy="225252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pic>
        <p:nvPicPr>
          <p:cNvPr id="638" name="Shape 218" descr=""/>
          <p:cNvPicPr/>
          <p:nvPr/>
        </p:nvPicPr>
        <p:blipFill>
          <a:blip r:embed="rId10"/>
          <a:stretch/>
        </p:blipFill>
        <p:spPr>
          <a:xfrm rot="1362600">
            <a:off x="7140600" y="4118040"/>
            <a:ext cx="1846080" cy="2400120"/>
          </a:xfrm>
          <a:prstGeom prst="rect">
            <a:avLst/>
          </a:prstGeom>
          <a:ln w="0">
            <a:noFill/>
          </a:ln>
        </p:spPr>
      </p:pic>
      <p:pic>
        <p:nvPicPr>
          <p:cNvPr id="639" name="Shape 219" descr=""/>
          <p:cNvPicPr/>
          <p:nvPr/>
        </p:nvPicPr>
        <p:blipFill>
          <a:blip r:embed="rId11"/>
          <a:srcRect l="15004" t="2617" r="15004" b="10840"/>
          <a:stretch/>
        </p:blipFill>
        <p:spPr>
          <a:xfrm rot="20356800">
            <a:off x="339840" y="4502160"/>
            <a:ext cx="1465200" cy="2166840"/>
          </a:xfrm>
          <a:prstGeom prst="rect">
            <a:avLst/>
          </a:prstGeom>
          <a:ln w="0">
            <a:noFill/>
          </a:ln>
        </p:spPr>
      </p:pic>
      <p:sp>
        <p:nvSpPr>
          <p:cNvPr id="640" name="Shape 220"/>
          <p:cNvSpPr/>
          <p:nvPr/>
        </p:nvSpPr>
        <p:spPr>
          <a:xfrm>
            <a:off x="1333440" y="2300400"/>
            <a:ext cx="6969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 федеральном перечне по модулям ОРКСЭ представлены учебники восьми изд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ДРОФ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кадемкнига/Учеб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ЕНТАНА-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социация XXI в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Просве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тр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Русское сл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Центр поддержки культурно-исторических традиций Оте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утбук</dc:creator>
  <dc:description/>
  <dc:language>en-US</dc:language>
  <cp:lastModifiedBy>2013</cp:lastModifiedBy>
  <dcterms:modified xsi:type="dcterms:W3CDTF">2016-09-29T09:47:14Z</dcterms:modified>
  <cp:revision>2</cp:revision>
  <dc:subject/>
  <dc:title>Организация изучения комплексного учебного курса “Основы религиозных культур и светской этики в общеобразовательных учреждениях Свердловской области</dc:title>
</cp:coreProperties>
</file>