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DFE-7435-42ED-A9E8-50D991C0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CC8-44CA-4D91-A3CF-944D7493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13004-7784-4D1E-8FDC-88EB214A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AE14-17C0-49AA-B504-C497DDF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2C380-F88D-47B5-8E23-0A9A30FD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91C2-AF50-4DB0-A001-99EB9C1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4ADE-899E-4A4D-969C-0B76C98E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FC30-B707-495D-A1A4-2EC511B0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FD2A9-B056-481E-858A-3B3AC826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10229-3FE7-4A9D-98C4-91CD502C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F5B76-0F07-4313-B1CC-0D879294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22350-5BC4-44F2-B073-CB7CC40B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27F-3596-44C7-A5B2-A5CB52BC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25F7C-1EC0-49F2-8276-C0D8D71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63BB5-0BDE-4B0A-B225-3DD4F3C4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7D94D-D0BC-41A9-99ED-C24115BE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A6556-1518-4FF3-A0F1-5F1C6D42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7BD9E-AFC3-4E7A-9CE9-10ABE08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947B9-FC95-4C6F-948E-E2FD0C8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A8564-4D6C-47F7-AB88-76D2339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3602C-1CCB-42B1-84FF-1697706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EABD4-B2DE-4C5C-96BA-38ECED4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F6A48-3D39-4448-B53E-E56BF741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CBD-2B17-47CE-BB25-D7714306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B4C51-35C6-4C27-8E2E-EAF10EAD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09516-5811-498C-AAEB-0216A4CA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E2B9-4822-4283-9F09-03264C9A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3B01-8E4D-4552-BFAE-4F84AC46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8043-61C4-4EB1-B89B-1B1C263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216DE-D73F-48FA-8ADD-CD0340FB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FD09D-4C05-4E0E-BD1C-B5A20222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3A4B9-F537-4FE2-9FB7-E5B1DAC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27542-0392-40AC-96F7-FD1532A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36C7C-C931-45DC-BAF0-A009188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635F-CD52-4463-A98B-519387D8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326C-CB59-46C5-BA8B-4AA6141C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7863C-4DF5-45AC-9A0A-8D022162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65A50-222E-4E43-9EA0-090CD5E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E1DD0-161B-4C37-B190-C4E020A0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0FA3-7CC7-45D1-A367-868FBD6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F440B-4FBE-4A31-AFE8-8FF6B72C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678A-AB5C-43FD-8F55-62154E3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75647-D22D-4466-96F5-A8BF15F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0FAA-08DF-409F-9A99-73CA0FF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09DCB-9AB2-458E-8DA5-90630A49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D53-4842-4459-90D4-199E2083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C70A4-80AE-455C-A39F-A9FA629C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BFE35-04E6-499F-B72C-B983103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06A6E-C3AF-4A97-8608-A5D4BC0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5950B-0CEB-44F3-B58B-3453B32D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2B03E-8167-4F82-BC18-AA2A4FD7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6549EE-B50D-4EF5-B2E1-27FE961F46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D0039D-67E0-4731-97A5-FC766249A0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7219C5-CE8D-4646-9A9C-FC9FEC23932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13B57E-40DA-462C-BD93-E1DF4FB724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C40CF7-4726-45FD-A2C5-6628D81756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145-5A8A-4011-8F1A-61FDA5CB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1B7585-832B-484F-8B72-9C102565C0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6CA612-DD0F-47C4-81FF-BE53E130A21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C4D92B-C36D-43EA-A73C-08A0EDB519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4E8482-7DC9-4DE6-B4AE-43A5290E3F2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44AE64-C559-4616-B94D-5A030DAE73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39EF34-0725-4323-B025-8085D5445A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33266F-3896-43C5-8CDC-9B9A60DE68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011-3C9D-4D08-96E2-7A57B20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F4C8-CA24-483D-A9C8-A86AF31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8EB-5DE1-47FE-9872-91D88BF6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D2D8-EA4A-48D4-99ED-26FDE69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0DF-52DC-4CC3-8CF6-BB24182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37F0-5F06-4DFD-8C99-BF7FF5D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4A4-7D01-41D8-B2C6-B4D1294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9A7B-0AB6-4DA4-B34E-898EF512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78D3-4479-40DF-A36F-41BE01D7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1CD-F951-45F1-8668-5061AD9A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0D37A-776E-4CCE-B4D1-38D45E50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F5C4-AF99-48B5-99FE-A2BB77BD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DAA3-E5C5-40EC-BCB4-C8F4846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5233-656B-4235-A8E5-53988C0D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BED5-3247-4B6B-9A8C-1BD7369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B21-796F-4B2A-8325-5F02C63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503B-4155-4F90-BDEF-1160F28F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17AE-5720-486E-A001-39AD658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28169-8628-4A21-A897-140EC65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E17B-D7CC-4A2A-B69B-0F82E44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B0F0-6CBB-4418-81BF-142180C7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F634-3A6F-4252-8343-0758557A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7744-123A-4B35-AF65-1CF7DA83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1ACE-6D52-4CE9-A80D-5225631D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4333-C64B-43FC-B1C2-A4DFA55E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2ADD-8CA7-45C6-B7EA-8600D76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1E0-6046-4DF9-9930-9330860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4CBC-0B2A-49FB-90CF-D43A985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D7E1-A5BF-4570-9CDD-98A2710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5458-0BA2-48B9-9057-E6BB765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43C2-63FF-43C8-95AF-DB4954A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B83B-2C28-40C8-A960-73A1BB7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0586-B16D-4699-9670-840F7A1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E659-148D-492F-9D87-5FD13F46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A3B0-C9FC-49FB-BCBC-3C263DF8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3823-1708-44A3-B030-4A86B52E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96EA-DAE6-426B-8A96-2372BA33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B10-83AE-4A1B-A374-7FD6EC29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2063-AC55-498D-860E-1A44B8A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5BC0-95F1-4D46-85C4-FBD852C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B825-F392-4222-8574-6072483C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65B8-1180-4151-A2E5-640545D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7418-A014-4386-8524-D8B07092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BBC9-386B-4F78-8CC2-D9D2D86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559A-30DA-41A9-A26D-D86BFCE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8AA9-2051-4378-A678-AF8355CD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9310-0C76-41AB-9F85-A503B194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69B16-C893-49F2-A184-9791DB1C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E7A-B76F-432D-BA8B-F1611AC9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4147-0C41-421C-841F-7E7081AA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B1F7-0335-4BD1-AE63-23E428C2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E644-D98C-4F7C-B393-12058E8E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2744-A654-4ED3-AEAE-81FFADE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01F9-2E9E-4257-9B92-02099928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A842-95B6-4E70-9521-31CCE90F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6540-48ED-4B6E-9FE7-3B73D089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B6A5-2F04-45C9-A2FE-91919AEE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4B46-D1EB-45A0-A92F-E3EB8E57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5807-2989-4F72-911B-766D7A2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8AC-66FC-477B-9058-2D7E201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5F07F-CD58-4506-BFFA-1BD753A6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B5B6-8E0F-49E4-B68D-8AFB7DA2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DA63-6A60-4CCE-9751-1DF3943B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A45D-1195-402F-84F7-E326FB16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B0A0-C4F4-4EEC-93CA-B3D8D94A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1C5E-C5E2-4C8D-B2C1-EADC9986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97A4-74BC-4A38-8175-087AA8CD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A7CED-ED76-4765-8C0A-B2B38E8D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58238-E4F2-437E-B968-A79B9CF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9285-6B37-4AD9-8DDF-773BAB5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F09-708F-4AE3-B470-BEC8E20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22546-284C-4BC5-99DE-948C3AB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6B0B-CA4E-49A6-82A0-8D02408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9E9C7-C98F-404A-8C4D-67CA6193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1163-20AA-413F-88EB-FBDD5E2C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87A8-E839-47E7-96F2-197F0841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A343-AEC4-4607-B18B-6EAF2489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AB44-CC7A-40C2-93C5-48D90B8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B876-D707-4DAE-9E41-C63DDD60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BCAAB-EE26-4892-B12A-5472848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4D1C2-DE5A-487D-B244-B977B1C3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79E-B145-47D7-9B7D-3FC88B7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9D048-5F7B-424A-A303-95C36B9E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1C11-3D2F-4635-A686-5EB1B86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8A488-2844-48B1-803A-A19EF700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DD4F-F4FB-43FB-862A-233B6E5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8A887-1A44-4435-9229-A47F7C5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1ABB-3E18-4EB9-828F-F1EC0CFF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98F88-2352-4C44-8032-349B613E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EF65-3A47-43FA-8213-6C317571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5C6C-C2E4-4D40-B2A4-DBA801F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872AC-07EF-4C28-B1A8-1C016E2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D8E6-3AB8-4187-9053-FE9CD2BFE0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5FC2-593D-4640-B491-C8F2895378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89F-696E-4CC4-B810-47DCC2236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C78B-4A88-46EC-AA0E-A7D6D8B95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37"/>
          </p:nvPr>
        </p:nvSpPr>
        <p:spPr>
          <a:xfrm>
            <a:off x="8520120" y="6275160"/>
            <a:ext cx="549360" cy="525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D8A-0252-4608-B0AC-9FAE77B19F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D0E-05C5-43E4-9518-80D0D40CDC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CDBE-F86E-4B53-87F9-C387CE4BAE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4BFA-5485-45B8-99E7-AC72A05E1B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E92C-6BE6-42F6-9CAC-1B2D3B979E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3DF-68F5-4BB9-8668-CCBBB7BA73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A8B7-D679-4DD8-A81A-E23816B662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553-08B6-49BB-B262-CFB85852C1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C76-3025-4B58-9A7F-58E60E1D2E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Shape 68" descr=""/>
          <p:cNvPicPr/>
          <p:nvPr/>
        </p:nvPicPr>
        <p:blipFill>
          <a:blip r:embed="rId1"/>
          <a:stretch/>
        </p:blipFill>
        <p:spPr>
          <a:xfrm>
            <a:off x="1200240" y="1170000"/>
            <a:ext cx="7785000" cy="26208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66840" y="5468760"/>
            <a:ext cx="72468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700" spc="-1" strike="noStrike">
              <a:solidFill>
                <a:srgbClr val="7e0f23"/>
              </a:solidFill>
              <a:latin typeface="Lucida Sans Unicode"/>
            </a:endParaRPr>
          </a:p>
        </p:txBody>
      </p:sp>
      <p:sp>
        <p:nvSpPr>
          <p:cNvPr id="605" name="Shape 71"/>
          <p:cNvSpPr/>
          <p:nvPr/>
        </p:nvSpPr>
        <p:spPr>
          <a:xfrm>
            <a:off x="954000" y="355680"/>
            <a:ext cx="815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Shape 225" descr=""/>
          <p:cNvPicPr/>
          <p:nvPr/>
        </p:nvPicPr>
        <p:blipFill>
          <a:blip r:embed="rId1"/>
          <a:stretch/>
        </p:blipFill>
        <p:spPr>
          <a:xfrm>
            <a:off x="933480" y="219240"/>
            <a:ext cx="8217000" cy="890280"/>
          </a:xfrm>
          <a:prstGeom prst="rect">
            <a:avLst/>
          </a:prstGeom>
          <a:ln w="0">
            <a:noFill/>
          </a:ln>
        </p:spPr>
      </p:pic>
      <p:sp>
        <p:nvSpPr>
          <p:cNvPr id="642" name="Shape 226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hape 227"/>
          <p:cNvSpPr/>
          <p:nvPr/>
        </p:nvSpPr>
        <p:spPr>
          <a:xfrm>
            <a:off x="0" y="54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hape 228"/>
          <p:cNvSpPr/>
          <p:nvPr/>
        </p:nvSpPr>
        <p:spPr>
          <a:xfrm>
            <a:off x="98280" y="1144440"/>
            <a:ext cx="90028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1. Обеспечить свободный выбор модуля в интересах кажд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2. Обеспечить  открытость механизма введения и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3. Обеспечить каждого ребенка У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4. Уделить особое внимание кадрам, от которых зависят эффекты введения да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5. Обеспечить методическое сопровождение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6. Обеспечить мониторинг изучения эффективности реализации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Shape 97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607" name="Shape 98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752840" cy="2303640"/>
          </a:xfrm>
          <a:prstGeom prst="rect">
            <a:avLst/>
          </a:prstGeom>
          <a:ln w="0">
            <a:noFill/>
          </a:ln>
        </p:spPr>
      </p:pic>
      <p:pic>
        <p:nvPicPr>
          <p:cNvPr id="608" name="Shape 99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609" name="Shape 100" descr=""/>
          <p:cNvPicPr/>
          <p:nvPr/>
        </p:nvPicPr>
        <p:blipFill>
          <a:blip r:embed="rId4"/>
          <a:stretch/>
        </p:blipFill>
        <p:spPr>
          <a:xfrm>
            <a:off x="243000" y="773280"/>
            <a:ext cx="145080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10" name="Shape 101"/>
          <p:cNvGrpSpPr/>
          <p:nvPr/>
        </p:nvGrpSpPr>
        <p:grpSpPr>
          <a:xfrm>
            <a:off x="1650960" y="235080"/>
            <a:ext cx="5412960" cy="3809520"/>
            <a:chOff x="1650960" y="235080"/>
            <a:chExt cx="5412960" cy="3809520"/>
          </a:xfrm>
        </p:grpSpPr>
        <p:pic>
          <p:nvPicPr>
            <p:cNvPr id="611" name="Shape 102" descr=""/>
            <p:cNvPicPr/>
            <p:nvPr/>
          </p:nvPicPr>
          <p:blipFill>
            <a:blip r:embed="rId5"/>
            <a:stretch/>
          </p:blipFill>
          <p:spPr>
            <a:xfrm>
              <a:off x="1650960" y="235080"/>
              <a:ext cx="523692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Shape 103"/>
            <p:cNvSpPr/>
            <p:nvPr/>
          </p:nvSpPr>
          <p:spPr>
            <a:xfrm>
              <a:off x="1827000" y="376200"/>
              <a:ext cx="523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Shape 104" descr=""/>
          <p:cNvPicPr/>
          <p:nvPr/>
        </p:nvPicPr>
        <p:blipFill>
          <a:blip r:embed="rId6"/>
          <a:stretch/>
        </p:blipFill>
        <p:spPr>
          <a:xfrm>
            <a:off x="6926400" y="484200"/>
            <a:ext cx="1796760" cy="2448000"/>
          </a:xfrm>
          <a:prstGeom prst="rect">
            <a:avLst/>
          </a:prstGeom>
          <a:ln w="0">
            <a:noFill/>
          </a:ln>
        </p:spPr>
      </p:pic>
      <p:pic>
        <p:nvPicPr>
          <p:cNvPr id="614" name="Shape 105" descr=""/>
          <p:cNvPicPr/>
          <p:nvPr/>
        </p:nvPicPr>
        <p:blipFill>
          <a:blip r:embed="rId7"/>
          <a:stretch/>
        </p:blipFill>
        <p:spPr>
          <a:xfrm>
            <a:off x="324000" y="3284640"/>
            <a:ext cx="1568160" cy="2160360"/>
          </a:xfrm>
          <a:prstGeom prst="rect">
            <a:avLst/>
          </a:prstGeom>
          <a:ln w="0">
            <a:noFill/>
          </a:ln>
        </p:spPr>
      </p:pic>
      <p:sp>
        <p:nvSpPr>
          <p:cNvPr id="615" name="Shape 106"/>
          <p:cNvSpPr/>
          <p:nvPr/>
        </p:nvSpPr>
        <p:spPr>
          <a:xfrm>
            <a:off x="2154240" y="568440"/>
            <a:ext cx="45720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урс «Основы религиозных культур и светской этики» включает в себя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моду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Основы православ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Основы мировых религиозных культ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Основы светской э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Основы ислам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Основы буддий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Основы иудей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Shape 11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617" name="Shape 114"/>
          <p:cNvSpPr/>
          <p:nvPr/>
        </p:nvSpPr>
        <p:spPr>
          <a:xfrm>
            <a:off x="909720" y="1876320"/>
            <a:ext cx="7777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7840" indent="-384480">
              <a:lnSpc>
                <a:spcPct val="100000"/>
              </a:lnSpc>
              <a:buClr>
                <a:srgbClr val="7e0f23"/>
              </a:buClr>
              <a:buSzPct val="80000"/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0f23"/>
                </a:solidFill>
                <a:latin typeface="Questrial"/>
                <a:ea typeface="Questrial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По месту в учебном плане и по содержанию курс ОРКСЭ служит важным связующим звеном между двумя этапами гуманитарного образования и воспитания школьник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дополняет обществоведческие аспекты предмета «Окружающий мир», с которым знакомятся учащиеся основной школ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предваряет начинающееся в 5 классе изучение предмета «История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Questria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Логическое продолжение курса ОРКСЭ учебный курс “Основы духовно-нравственной культуры народов России” на уровне основ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Shape 120" descr=""/>
          <p:cNvPicPr/>
          <p:nvPr/>
        </p:nvPicPr>
        <p:blipFill>
          <a:blip r:embed="rId1"/>
          <a:stretch/>
        </p:blipFill>
        <p:spPr>
          <a:xfrm>
            <a:off x="847800" y="42840"/>
            <a:ext cx="784548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риказ Минобрнауки России от 17.12.2010 № 1897 “Об утверждении федерального государственного образовательного стандарта основного общего образования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Изучение предметной области "Основы духовно-нравственной культуры народов России" должно обеспечить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воспитание способности к духовному развитию, нравственному самосовершенствованию; воспитание веротерпимости, уважительного отношения к религиозным чувствам, взглядам людей или их отсутствию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знание основных норм морали, нравственных, духовных идеалов, хранимых в культурных традициях народов России, готовность на их основе к сознательному самоограничению в поступках, поведении, расточительном потребительстве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основах светской этики, культуры традиционных религий, их роли в развитии культуры и истории России и человечества, в становлении гражданского общества и российской государственности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онимание значения нравственности, веры и религии в жизни человека, семьи и общества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исторической роли традиционных религий и гражданского общества в становлении российской государственност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Shape 127" descr=""/>
          <p:cNvPicPr/>
          <p:nvPr/>
        </p:nvPicPr>
        <p:blipFill>
          <a:blip r:embed="rId1"/>
          <a:stretch/>
        </p:blipFill>
        <p:spPr>
          <a:xfrm>
            <a:off x="847800" y="-92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Shape 168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8906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205920" y="1041480"/>
            <a:ext cx="8937720" cy="84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411480" indent="-285480">
              <a:lnSpc>
                <a:spcPct val="115000"/>
              </a:lnSpc>
              <a:buClr>
                <a:srgbClr val="7e0f2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Lucida Sans Unicode"/>
              </a:rPr>
              <a:t>21 января 2015 года утвержден региональный ПЛАН </a:t>
            </a: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мероприятий по обеспечению свободного, добровольного, информированного выбора модулей комплексного учебного курса «Основы религиозных культур и светской этики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1200" y="1876320"/>
          <a:ext cx="8707680" cy="4807080"/>
        </p:xfrm>
        <a:graphic>
          <a:graphicData uri="http://schemas.openxmlformats.org/drawingml/2006/table">
            <a:tbl>
              <a:tblPr/>
              <a:tblGrid>
                <a:gridCol w="480960"/>
                <a:gridCol w="1451160"/>
                <a:gridCol w="1793880"/>
                <a:gridCol w="2500200"/>
                <a:gridCol w="2481480"/>
              </a:tblGrid>
              <a:tr h="365400"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редителя образовательной организации / Муницип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разовательн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знакомлению с содержанием моду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го учебного курса ОРКСЭ участников образовательных отно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регион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территори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дополнительного раздела на официальном сайте ОО по вопросам реализации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ых сайтах МОУО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проведении презентационные мероприятий о содержании и организации реализации комплексного учебного курса ОРКСЭ в муниципальных 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онные открытые уроки по модуля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Shape 183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1176120"/>
          </a:xfrm>
          <a:prstGeom prst="rect">
            <a:avLst/>
          </a:prstGeom>
          <a:ln w="0">
            <a:noFill/>
          </a:ln>
        </p:spPr>
      </p:pic>
      <p:pic>
        <p:nvPicPr>
          <p:cNvPr id="626" name="Shape 184" descr=""/>
          <p:cNvPicPr/>
          <p:nvPr/>
        </p:nvPicPr>
        <p:blipFill>
          <a:blip r:embed="rId2"/>
          <a:stretch/>
        </p:blipFill>
        <p:spPr>
          <a:xfrm>
            <a:off x="403200" y="1076400"/>
            <a:ext cx="7267680" cy="55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Shape 190" descr=""/>
          <p:cNvPicPr/>
          <p:nvPr/>
        </p:nvPicPr>
        <p:blipFill>
          <a:blip r:embed="rId1"/>
          <a:stretch/>
        </p:blipFill>
        <p:spPr>
          <a:xfrm>
            <a:off x="1305000" y="208080"/>
            <a:ext cx="7845480" cy="474480"/>
          </a:xfrm>
          <a:prstGeom prst="rect">
            <a:avLst/>
          </a:prstGeom>
          <a:ln w="0">
            <a:noFill/>
          </a:ln>
        </p:spPr>
      </p:pic>
      <p:sp>
        <p:nvSpPr>
          <p:cNvPr id="628" name="Shape 191"/>
          <p:cNvSpPr/>
          <p:nvPr/>
        </p:nvSpPr>
        <p:spPr>
          <a:xfrm>
            <a:off x="68400" y="674640"/>
            <a:ext cx="893736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щеобразова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живающих(его) по адрес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родители (законные представители) учащегося ______ «____» класса __________________________(Ф.И. ребёнка), из предлагаемых на выбор модулей комплексного учебного курса «Основы религиозных культур и светской этик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православн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слам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уддий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удейской культу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мировых религиозных культур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светской э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для своего ребёнка изучение модуля: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«___» _________________ 20___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Shape 208" descr=""/>
          <p:cNvPicPr/>
          <p:nvPr/>
        </p:nvPicPr>
        <p:blipFill>
          <a:blip r:embed="rId1"/>
          <a:stretch/>
        </p:blipFill>
        <p:spPr>
          <a:xfrm rot="538800">
            <a:off x="5614560" y="891720"/>
            <a:ext cx="1249560" cy="19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0" name="Shape 209" descr=""/>
          <p:cNvPicPr/>
          <p:nvPr/>
        </p:nvPicPr>
        <p:blipFill>
          <a:blip r:embed="rId2"/>
          <a:stretch/>
        </p:blipFill>
        <p:spPr>
          <a:xfrm rot="127800">
            <a:off x="4215960" y="830160"/>
            <a:ext cx="127944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1" name="Shape 210" descr=""/>
          <p:cNvPicPr/>
          <p:nvPr/>
        </p:nvPicPr>
        <p:blipFill>
          <a:blip r:embed="rId3"/>
          <a:srcRect l="7496" t="0" r="5001" b="2089"/>
          <a:stretch/>
        </p:blipFill>
        <p:spPr>
          <a:xfrm rot="764400">
            <a:off x="6948360" y="1182240"/>
            <a:ext cx="1555920" cy="1989360"/>
          </a:xfrm>
          <a:prstGeom prst="rect">
            <a:avLst/>
          </a:prstGeom>
          <a:ln w="0">
            <a:noFill/>
          </a:ln>
        </p:spPr>
      </p:pic>
      <p:pic>
        <p:nvPicPr>
          <p:cNvPr id="632" name="Shape 211" descr=""/>
          <p:cNvPicPr/>
          <p:nvPr/>
        </p:nvPicPr>
        <p:blipFill>
          <a:blip r:embed="rId4"/>
          <a:stretch/>
        </p:blipFill>
        <p:spPr>
          <a:xfrm rot="21352800">
            <a:off x="2827440" y="863640"/>
            <a:ext cx="1384200" cy="1835280"/>
          </a:xfrm>
          <a:prstGeom prst="rect">
            <a:avLst/>
          </a:prstGeom>
          <a:ln w="0">
            <a:noFill/>
          </a:ln>
        </p:spPr>
      </p:pic>
      <p:pic>
        <p:nvPicPr>
          <p:cNvPr id="633" name="Shape 212" descr=""/>
          <p:cNvPicPr/>
          <p:nvPr/>
        </p:nvPicPr>
        <p:blipFill>
          <a:blip r:embed="rId5"/>
          <a:stretch/>
        </p:blipFill>
        <p:spPr>
          <a:xfrm rot="20995800">
            <a:off x="1487160" y="985320"/>
            <a:ext cx="1384200" cy="1887840"/>
          </a:xfrm>
          <a:prstGeom prst="rect">
            <a:avLst/>
          </a:prstGeom>
          <a:ln w="0">
            <a:noFill/>
          </a:ln>
        </p:spPr>
      </p:pic>
      <p:pic>
        <p:nvPicPr>
          <p:cNvPr id="634" name="Shape 213" descr=""/>
          <p:cNvPicPr/>
          <p:nvPr/>
        </p:nvPicPr>
        <p:blipFill>
          <a:blip r:embed="rId6"/>
          <a:stretch/>
        </p:blipFill>
        <p:spPr>
          <a:xfrm rot="20064600">
            <a:off x="307440" y="1643040"/>
            <a:ext cx="1384560" cy="1814400"/>
          </a:xfrm>
          <a:prstGeom prst="rect">
            <a:avLst/>
          </a:prstGeom>
          <a:ln w="0">
            <a:noFill/>
          </a:ln>
        </p:spPr>
      </p:pic>
      <p:pic>
        <p:nvPicPr>
          <p:cNvPr id="635" name="Shape 214" descr=""/>
          <p:cNvPicPr/>
          <p:nvPr/>
        </p:nvPicPr>
        <p:blipFill>
          <a:blip r:embed="rId7"/>
          <a:stretch/>
        </p:blipFill>
        <p:spPr>
          <a:xfrm rot="20019600">
            <a:off x="320400" y="3177720"/>
            <a:ext cx="1317600" cy="1755720"/>
          </a:xfrm>
          <a:prstGeom prst="rect">
            <a:avLst/>
          </a:prstGeom>
          <a:ln w="0">
            <a:noFill/>
          </a:ln>
        </p:spPr>
      </p:pic>
      <p:pic>
        <p:nvPicPr>
          <p:cNvPr id="636" name="Shape 215" descr=""/>
          <p:cNvPicPr/>
          <p:nvPr/>
        </p:nvPicPr>
        <p:blipFill>
          <a:blip r:embed="rId8"/>
          <a:stretch/>
        </p:blipFill>
        <p:spPr>
          <a:xfrm>
            <a:off x="1305000" y="208080"/>
            <a:ext cx="7845480" cy="779400"/>
          </a:xfrm>
          <a:prstGeom prst="rect">
            <a:avLst/>
          </a:prstGeom>
          <a:ln w="0">
            <a:noFill/>
          </a:ln>
        </p:spPr>
      </p:pic>
      <p:pic>
        <p:nvPicPr>
          <p:cNvPr id="637" name="Shape 217" descr=""/>
          <p:cNvPicPr/>
          <p:nvPr/>
        </p:nvPicPr>
        <p:blipFill>
          <a:blip r:embed="rId9"/>
          <a:stretch/>
        </p:blipFill>
        <p:spPr>
          <a:xfrm rot="825600">
            <a:off x="7195680" y="2400480"/>
            <a:ext cx="1735200" cy="225252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pic>
        <p:nvPicPr>
          <p:cNvPr id="638" name="Shape 218" descr=""/>
          <p:cNvPicPr/>
          <p:nvPr/>
        </p:nvPicPr>
        <p:blipFill>
          <a:blip r:embed="rId10"/>
          <a:stretch/>
        </p:blipFill>
        <p:spPr>
          <a:xfrm rot="1362600">
            <a:off x="7140600" y="4118040"/>
            <a:ext cx="1846080" cy="2400120"/>
          </a:xfrm>
          <a:prstGeom prst="rect">
            <a:avLst/>
          </a:prstGeom>
          <a:ln w="0">
            <a:noFill/>
          </a:ln>
        </p:spPr>
      </p:pic>
      <p:pic>
        <p:nvPicPr>
          <p:cNvPr id="639" name="Shape 219" descr=""/>
          <p:cNvPicPr/>
          <p:nvPr/>
        </p:nvPicPr>
        <p:blipFill>
          <a:blip r:embed="rId11"/>
          <a:srcRect l="15004" t="2617" r="15004" b="10840"/>
          <a:stretch/>
        </p:blipFill>
        <p:spPr>
          <a:xfrm rot="20356800">
            <a:off x="339840" y="4502160"/>
            <a:ext cx="1465200" cy="2166840"/>
          </a:xfrm>
          <a:prstGeom prst="rect">
            <a:avLst/>
          </a:prstGeom>
          <a:ln w="0">
            <a:noFill/>
          </a:ln>
        </p:spPr>
      </p:pic>
      <p:sp>
        <p:nvSpPr>
          <p:cNvPr id="640" name="Shape 220"/>
          <p:cNvSpPr/>
          <p:nvPr/>
        </p:nvSpPr>
        <p:spPr>
          <a:xfrm>
            <a:off x="1333440" y="2300400"/>
            <a:ext cx="6969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 федеральном перечне по модулям ОРКСЭ представлены учебники восьми изд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ДРОФ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кадемкнига/Учеб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ЕНТАНА-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социация XXI в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Просве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тр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Русское сл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Центр поддержки культурно-исторических традиций Оте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утбук</dc:creator>
  <dc:description/>
  <dc:language>en-US</dc:language>
  <cp:lastModifiedBy>2013</cp:lastModifiedBy>
  <dcterms:modified xsi:type="dcterms:W3CDTF">2016-09-29T09:47:14Z</dcterms:modified>
  <cp:revision>2</cp:revision>
  <dc:subject/>
  <dc:title>Организация изучения комплексного учебного курса “Основы религиозных культур и светской этики в общеобразовательных учреждениях Свердловской области</dc:title>
</cp:coreProperties>
</file>