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3.png" ContentType="image/png"/>
  <Override PartName="/ppt/media/image13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7.png" ContentType="image/png"/>
  <Override PartName="/ppt/media/image12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813B-AF37-487A-A169-B09A6C36F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0C23-7F23-496C-A6E2-C15E8D1A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17CEB8-DCD1-4D96-A6EE-38606E2B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D38FE-CB31-4181-9F70-1BCABEE7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F830F2-8C91-418B-BC9C-7EB6FC25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24D4E4-4338-44C8-A211-543804C3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1F180-C611-48A4-B28C-B443024A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DC82F-29AD-4B32-9044-88F59996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AFA18-86AE-4416-AAA4-DF3BC30E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6B881-C3AF-4185-BA8E-F8455365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9ED89-25CA-4573-9188-F78AABC59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3F0E2-4FB3-472E-9469-A38988596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744E-8526-4AB9-8F89-9C6B4D5B7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C6D96-ADF0-48E7-973C-E156C639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292041-6EF0-4514-887B-6912AEC6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AB9E1-0080-4EB4-A96B-9B6FBFB4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C2E41-67AE-46E6-BE18-86FC1F0E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17644-290C-4A0E-ACFC-89EC30EC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A270E-A14F-4408-A338-5B324B60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732D4-EDA9-4A48-B357-E393DE73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ACB5C-5BE5-4934-8F2B-423E3A0B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FD2746-196F-4207-9B8B-4CF5E240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075970-7316-453A-867D-5368919A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ACEB-83CB-4EE8-B22F-FF9930E51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50589-915C-4BF3-A2EF-C3F516C1F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92E6B-CFF2-48CA-A90D-1D5A2CB88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03260-B88F-4749-B919-52D73D65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F87354-9FC7-4ED6-9296-E4B01A26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56C27-DDB8-4D77-8E89-F00F95F9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50236-73E0-4BD7-8E3D-5F4B7FE4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C4945-4262-4E1E-B41A-7008215B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F0100-5615-4D62-999B-495EA8EF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BF840-6C18-45AD-936E-858A59E9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DAD5C-2362-472A-9707-EA9B8492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889F-326F-4272-AF08-32D372A80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111A7-F1F4-4FE4-9224-85F11C88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298FF-0839-434E-BA7C-60C892C04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606E0-8C42-4EEB-8462-97D04D80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37682-2484-497A-B9AF-F85194522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8CA57D-5C86-4DCD-9FF8-BCCE2354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8E09A2-CEDF-4E3B-A1F4-8F74BC7C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E5BC47-7C74-4F0A-BA57-B6F65C26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02906-ADF0-412A-81C3-FE9F46DE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508C7-26C7-4DB1-B58D-868AEBCF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3BC4D1-4AF4-4E3B-A002-4E526142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FA03-D062-4CCF-8B6B-85A91A6A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A23AAA-77AB-4941-8390-7E11502F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0CB4B-0547-4A84-9FFE-C54E3C88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99083-8B1A-40F9-BF8E-21F767EF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F068B-5BB4-4453-B1BD-84F71E164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0CC95-51DA-4866-9966-2FFE7A604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736F0FA-504E-4569-8A98-79A2E657366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184281E-91A7-44DC-B478-363B045C374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370960E-12C9-46FF-A53F-AC1499AC548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806B62C-1751-4C76-B101-B6E949F7A53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A18CF45-C125-4123-A740-DC253B34FB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0F21-57A4-478E-8A82-BA3ECCD9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C92572A-11E8-422F-8850-AEE6BB5AA90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6AB27C4-932D-43E4-A563-5A6BBCA3FC3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4842157-F563-4213-9A3C-DFE04E8A366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B07164B-0A0B-469D-9F8A-33FB2392886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2BC914F-56AA-4914-AEB5-F825D11B20D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33B2348-30EA-40F5-931E-C205FAD2C28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E5656CA-1CAB-4DF5-88AB-1AC21A3DF4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E662-6E3B-4F97-AD1E-CD99B132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E574-A203-48B3-9225-04A4A2B2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662DE-E93B-495C-A610-A3CC27E7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7667-13EC-411A-AE50-F204DF1C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5C69-06B4-445A-93CA-19711547A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521C-59E1-4ACC-8917-212FB851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D6E6-63AA-4117-BD9F-10A4D6FD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7880-D46A-415B-A7D6-C4545A4F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1DD9-9F5A-4399-8852-C01C31276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C13F-653F-43FE-8C9E-3BCA54FA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70C42-5BCD-4B81-8B50-5B9E98EE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4F7C7-CE11-4467-97CE-53D167DB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C203A-D4EE-4644-BA67-DA509961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288CA-327E-4949-83EF-8229A9F50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FEB56-A90A-4E86-85A1-41298FE49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EE47-2C91-4E17-BBA7-4828236F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520C8-8286-4AA7-A41C-40D4D676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7C57C-0334-4BF7-B8A2-E5B8F690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8ABCF-A1FB-4768-A443-1D637BF5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94BCD-CD24-4A03-BCB4-20D8DAC8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9EE60-7B76-443A-9FD8-EF6F6222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D6A86-B43D-4A62-BEA6-91B71596F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09F1D-F654-499C-AB44-76AD60BB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1C0A6-BE13-4540-B0B9-647C5B54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A2845-F64C-4F35-902F-1F3D16B4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DFC45-63A8-4696-B044-B44AE51FB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5AB8-EE46-4ED5-84FA-7F90C0C07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F37B7-B5FA-4FD0-B746-96E1E711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3B513-1A70-40CB-BBC5-7A0F5AEC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FB838-A16B-40BD-93B8-3287C6DE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577CE-3847-4E5F-B175-572635A9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2E576-6283-44EF-B6EF-16F01E07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1329A-D3FD-4695-A404-2D86A36D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0B8C3-B8E6-4048-9EE8-F6D84DEC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63FC4-90B3-4A8E-9CA0-3FF6B9BCF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EFDBA-A79C-4FB2-BE35-3F212F26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7A6D5-C6C9-4A4A-98AA-396932F7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0052-F743-4995-8B7F-19CAAA9C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3AB01-85A7-460F-ABF0-1487FAC5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41FFB-9EBA-413B-A698-C35A7F3E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2FE52-2F4D-40D4-B9DF-35337FC0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88199-49C9-4362-A8DC-5B875C08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46BF5-669F-4804-A8C5-C46DF0BA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CF008-67C8-41ED-9F9C-DB54FBF8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B7FFB-77AD-4669-81E3-1B9BB871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B547A-1C94-4D6D-AFD7-31982054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B793B-5A6E-4795-82C6-C2FAA225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24371-1ED1-40B7-B17C-148E8B63A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1E43-72A4-49CB-8B0C-3A547F2C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EA8A9-17D5-4C23-8B60-E8BAA01B5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836F0-B752-470E-BA20-E33E1B846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43ECC-CF9C-42A2-9B89-10EDCE14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CFE28-1749-465E-9FB4-D1ED4B4D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C923E-43D8-4CA3-9245-D9075556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F1DBD-8CA0-4C2B-AAFF-9C1BDA6F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3E607-1E3E-43A3-AAA3-F578C3ED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EE597-7092-4637-9B20-31EAC97D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825F2-7FA8-4000-90FE-5AC05F5B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59366-0EF2-4DDC-A6BF-AD0B8743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288E-05E8-48FC-A13B-BF05BB51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E672D-5D5C-4CA7-9612-0E6E3E4B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7BBEE-E029-4E3C-8AD9-6F8551642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CE59D-AE62-4FF6-9F92-493EBF5D5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41429-B805-4536-BBA8-F21693D87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6DF37-E6BC-43B9-8C03-BEEFF2EC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73D797-1A89-4013-B640-784A8F25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289B1-5ABD-4D3F-85D7-DB39F3D2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F616B-E2FD-4813-944A-5AF86090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C33B8-FFBC-4F75-8CFD-2569D30D5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6C5933-88F1-43CF-AD64-A88BF4B6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3CBA-5052-4C47-994C-DA14155D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28BAB-9D2D-4750-8FFC-1D4289EC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59AC8-CACC-45D2-8B7E-2F6E2A23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796BD-71C4-4B90-85DA-71E7FCCFF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2527C-EC9B-42F4-A7E9-73108CC9D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34EFA-8E0B-492C-B962-F637055B1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352A8-BBEB-45E1-A8F8-A97614076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7CA44-6668-4AD9-BC3F-5E1875BF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60044-7701-4FAE-9E4A-851CEFD9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C3FE2-23F4-4973-8E8B-8531A1ED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D9ABA-E5F2-4D1A-8B73-7E900D87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8945-D5BD-4200-8858-31FDC41F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EC3C21-54E7-44EC-B7BE-B2E9196C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7CAF6B-4137-4977-BD9E-10D28F3E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51C5D-AED2-450D-A420-F9D255F3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D8CB8-DE68-45F5-BC03-FDD22323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D0F92-486B-44F9-9398-5265B0CA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0F983-AAA7-4BF3-89E3-12BFC868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9C6013-B214-4858-AE18-8B162D59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30FBC-1D96-4B93-BDEA-FB48CA21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D3DD7-F623-4D05-A4D8-87B98D82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93B36-FC58-4641-8BAB-A9DE3F55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484E-314A-4E4E-AFC4-62A42454D3B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8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0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1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0E2C-A273-439C-ADB3-04343F911A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67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9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2C94-3AFF-4D39-9438-70B8C246522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14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6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9B4F-8C39-4E7E-A328-7F0BC45C0B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61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3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sldNum" idx="37"/>
          </p:nvPr>
        </p:nvSpPr>
        <p:spPr>
          <a:xfrm>
            <a:off x="8520120" y="6275160"/>
            <a:ext cx="549360" cy="5252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6FFC-B104-437F-8F3B-C388C05C76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99DE-9452-4BC0-B666-CD301B85A5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3822-B7C8-4086-8E9A-307EEAAD6A4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B59C-5814-490A-AD84-516C9EB6D4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6079-22F3-4816-9F64-2756040B7C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E8BC-467C-4695-8ED1-8C375C2C409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6574-62A9-4F03-AC6B-B5FF8B0DE52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30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2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1034-8E3A-41CE-9DE1-703F7D1D2A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F121-256D-4239-9956-14DC2CB4BA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pn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Shape 68" descr=""/>
          <p:cNvPicPr/>
          <p:nvPr/>
        </p:nvPicPr>
        <p:blipFill>
          <a:blip r:embed="rId1"/>
          <a:stretch/>
        </p:blipFill>
        <p:spPr>
          <a:xfrm>
            <a:off x="1200240" y="1170000"/>
            <a:ext cx="7785000" cy="26208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366840" y="5468760"/>
            <a:ext cx="7246800" cy="12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2700" spc="-1" strike="noStrike">
              <a:solidFill>
                <a:srgbClr val="7e0f23"/>
              </a:solidFill>
              <a:latin typeface="Lucida Sans Unicode"/>
            </a:endParaRPr>
          </a:p>
        </p:txBody>
      </p:sp>
      <p:sp>
        <p:nvSpPr>
          <p:cNvPr id="605" name="Shape 71"/>
          <p:cNvSpPr/>
          <p:nvPr/>
        </p:nvSpPr>
        <p:spPr>
          <a:xfrm>
            <a:off x="954000" y="355680"/>
            <a:ext cx="8150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Shape 225" descr=""/>
          <p:cNvPicPr/>
          <p:nvPr/>
        </p:nvPicPr>
        <p:blipFill>
          <a:blip r:embed="rId1"/>
          <a:stretch/>
        </p:blipFill>
        <p:spPr>
          <a:xfrm>
            <a:off x="933480" y="219240"/>
            <a:ext cx="8217000" cy="890280"/>
          </a:xfrm>
          <a:prstGeom prst="rect">
            <a:avLst/>
          </a:prstGeom>
          <a:ln w="0">
            <a:noFill/>
          </a:ln>
        </p:spPr>
      </p:pic>
      <p:sp>
        <p:nvSpPr>
          <p:cNvPr id="642" name="Shape 226"/>
          <p:cNvSpPr/>
          <p:nvPr/>
        </p:nvSpPr>
        <p:spPr>
          <a:xfrm>
            <a:off x="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hape 227"/>
          <p:cNvSpPr/>
          <p:nvPr/>
        </p:nvSpPr>
        <p:spPr>
          <a:xfrm>
            <a:off x="0" y="540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hape 228"/>
          <p:cNvSpPr/>
          <p:nvPr/>
        </p:nvSpPr>
        <p:spPr>
          <a:xfrm>
            <a:off x="98280" y="1144440"/>
            <a:ext cx="900288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4c4b"/>
                </a:solidFill>
                <a:latin typeface="Times New Roman"/>
                <a:ea typeface="Times New Roman"/>
              </a:rPr>
              <a:t>1. Обеспечить свободный выбор модуля в интересах каждой семь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4c4b"/>
                </a:solidFill>
                <a:latin typeface="Times New Roman"/>
                <a:ea typeface="Times New Roman"/>
              </a:rPr>
              <a:t>2. Обеспечить  открытость механизма введения и преподавания курса ОРКС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4c4b"/>
                </a:solidFill>
                <a:latin typeface="Times New Roman"/>
                <a:ea typeface="Times New Roman"/>
              </a:rPr>
              <a:t>3. Обеспечить каждого ребенка УМ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4c4b"/>
                </a:solidFill>
                <a:latin typeface="Times New Roman"/>
                <a:ea typeface="Times New Roman"/>
              </a:rPr>
              <a:t>4. Уделить особое внимание кадрам, от которых зависят эффекты введения данного кур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4c4b"/>
                </a:solidFill>
                <a:latin typeface="Times New Roman"/>
                <a:ea typeface="Times New Roman"/>
              </a:rPr>
              <a:t>5. Обеспечить методическое сопровождение преподавания курса ОРКС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4c4b"/>
                </a:solidFill>
                <a:latin typeface="Times New Roman"/>
                <a:ea typeface="Times New Roman"/>
              </a:rPr>
              <a:t>6. Обеспечить мониторинг изучения эффективности реализации курса ОРКС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Shape 97" descr=""/>
          <p:cNvPicPr/>
          <p:nvPr/>
        </p:nvPicPr>
        <p:blipFill>
          <a:blip r:embed="rId1"/>
          <a:stretch/>
        </p:blipFill>
        <p:spPr>
          <a:xfrm>
            <a:off x="4572000" y="4221000"/>
            <a:ext cx="1473120" cy="2087640"/>
          </a:xfrm>
          <a:prstGeom prst="rect">
            <a:avLst/>
          </a:prstGeom>
          <a:ln w="0">
            <a:noFill/>
          </a:ln>
        </p:spPr>
      </p:pic>
      <p:pic>
        <p:nvPicPr>
          <p:cNvPr id="607" name="Shape 98" descr=""/>
          <p:cNvPicPr/>
          <p:nvPr/>
        </p:nvPicPr>
        <p:blipFill>
          <a:blip r:embed="rId2"/>
          <a:stretch/>
        </p:blipFill>
        <p:spPr>
          <a:xfrm>
            <a:off x="6948360" y="3213000"/>
            <a:ext cx="1752840" cy="2303640"/>
          </a:xfrm>
          <a:prstGeom prst="rect">
            <a:avLst/>
          </a:prstGeom>
          <a:ln w="0">
            <a:noFill/>
          </a:ln>
        </p:spPr>
      </p:pic>
      <p:pic>
        <p:nvPicPr>
          <p:cNvPr id="608" name="Shape 99" descr=""/>
          <p:cNvPicPr/>
          <p:nvPr/>
        </p:nvPicPr>
        <p:blipFill>
          <a:blip r:embed="rId3"/>
          <a:stretch/>
        </p:blipFill>
        <p:spPr>
          <a:xfrm>
            <a:off x="2556000" y="4221000"/>
            <a:ext cx="1639800" cy="2160720"/>
          </a:xfrm>
          <a:prstGeom prst="rect">
            <a:avLst/>
          </a:prstGeom>
          <a:ln w="0">
            <a:noFill/>
          </a:ln>
        </p:spPr>
      </p:pic>
      <p:pic>
        <p:nvPicPr>
          <p:cNvPr id="609" name="Shape 100" descr=""/>
          <p:cNvPicPr/>
          <p:nvPr/>
        </p:nvPicPr>
        <p:blipFill>
          <a:blip r:embed="rId4"/>
          <a:stretch/>
        </p:blipFill>
        <p:spPr>
          <a:xfrm>
            <a:off x="243000" y="773280"/>
            <a:ext cx="1450800" cy="2158920"/>
          </a:xfrm>
          <a:prstGeom prst="rect">
            <a:avLst/>
          </a:prstGeom>
          <a:ln w="0">
            <a:noFill/>
          </a:ln>
        </p:spPr>
      </p:pic>
      <p:grpSp>
        <p:nvGrpSpPr>
          <p:cNvPr id="610" name="Shape 101"/>
          <p:cNvGrpSpPr/>
          <p:nvPr/>
        </p:nvGrpSpPr>
        <p:grpSpPr>
          <a:xfrm>
            <a:off x="1650960" y="235080"/>
            <a:ext cx="5412960" cy="3809520"/>
            <a:chOff x="1650960" y="235080"/>
            <a:chExt cx="5412960" cy="3809520"/>
          </a:xfrm>
        </p:grpSpPr>
        <p:pic>
          <p:nvPicPr>
            <p:cNvPr id="611" name="Shape 102" descr=""/>
            <p:cNvPicPr/>
            <p:nvPr/>
          </p:nvPicPr>
          <p:blipFill>
            <a:blip r:embed="rId5"/>
            <a:stretch/>
          </p:blipFill>
          <p:spPr>
            <a:xfrm>
              <a:off x="1650960" y="235080"/>
              <a:ext cx="5236920" cy="38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Shape 103"/>
            <p:cNvSpPr/>
            <p:nvPr/>
          </p:nvSpPr>
          <p:spPr>
            <a:xfrm>
              <a:off x="1827000" y="376200"/>
              <a:ext cx="52369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3" name="Shape 104" descr=""/>
          <p:cNvPicPr/>
          <p:nvPr/>
        </p:nvPicPr>
        <p:blipFill>
          <a:blip r:embed="rId6"/>
          <a:stretch/>
        </p:blipFill>
        <p:spPr>
          <a:xfrm>
            <a:off x="6926400" y="484200"/>
            <a:ext cx="1796760" cy="2448000"/>
          </a:xfrm>
          <a:prstGeom prst="rect">
            <a:avLst/>
          </a:prstGeom>
          <a:ln w="0">
            <a:noFill/>
          </a:ln>
        </p:spPr>
      </p:pic>
      <p:pic>
        <p:nvPicPr>
          <p:cNvPr id="614" name="Shape 105" descr=""/>
          <p:cNvPicPr/>
          <p:nvPr/>
        </p:nvPicPr>
        <p:blipFill>
          <a:blip r:embed="rId7"/>
          <a:stretch/>
        </p:blipFill>
        <p:spPr>
          <a:xfrm>
            <a:off x="324000" y="3284640"/>
            <a:ext cx="1568160" cy="2160360"/>
          </a:xfrm>
          <a:prstGeom prst="rect">
            <a:avLst/>
          </a:prstGeom>
          <a:ln w="0">
            <a:noFill/>
          </a:ln>
        </p:spPr>
      </p:pic>
      <p:sp>
        <p:nvSpPr>
          <p:cNvPr id="615" name="Shape 106"/>
          <p:cNvSpPr/>
          <p:nvPr/>
        </p:nvSpPr>
        <p:spPr>
          <a:xfrm>
            <a:off x="2154240" y="568440"/>
            <a:ext cx="4572000" cy="35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Курс «Основы религиозных культур и светской этики» включает в себя 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6 модуле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Основы православной культу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Основы мировых религиозных культу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 Основы светской эт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. Основы исламской культу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. Основы буддийской культу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6. Основы иудейской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Shape 112" descr=""/>
          <p:cNvPicPr/>
          <p:nvPr/>
        </p:nvPicPr>
        <p:blipFill>
          <a:blip r:embed="rId1"/>
          <a:stretch/>
        </p:blipFill>
        <p:spPr>
          <a:xfrm>
            <a:off x="450720" y="115920"/>
            <a:ext cx="8242560" cy="1311120"/>
          </a:xfrm>
          <a:prstGeom prst="rect">
            <a:avLst/>
          </a:prstGeom>
          <a:ln w="0">
            <a:noFill/>
          </a:ln>
        </p:spPr>
      </p:pic>
      <p:sp>
        <p:nvSpPr>
          <p:cNvPr id="617" name="Shape 114"/>
          <p:cNvSpPr/>
          <p:nvPr/>
        </p:nvSpPr>
        <p:spPr>
          <a:xfrm>
            <a:off x="909720" y="1876320"/>
            <a:ext cx="7777080" cy="45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7840" indent="-384480">
              <a:lnSpc>
                <a:spcPct val="100000"/>
              </a:lnSpc>
              <a:buClr>
                <a:srgbClr val="7e0f23"/>
              </a:buClr>
              <a:buSzPct val="80000"/>
              <a:buFont typeface="Noto Symbol"/>
              <a:buChar char="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7e0f23"/>
                </a:solidFill>
                <a:latin typeface="Questrial"/>
                <a:ea typeface="Questrial"/>
              </a:rPr>
              <a:t>Формирование у младшего подростка мотиваций к осознанному нравственному поведению, основанному на знании и уважении культурных и религиозных традиций многонационального народа России, а также к диалогу с представителями других культур и мировоззрени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855360" y="1579680"/>
            <a:ext cx="7831080" cy="51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4160" indent="-372600">
              <a:lnSpc>
                <a:spcPct val="100000"/>
              </a:lnSpc>
              <a:buClr>
                <a:srgbClr val="7e0f23"/>
              </a:buClr>
              <a:buFont typeface="Noto Symbol"/>
              <a:buChar char="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e0f23"/>
                </a:solidFill>
                <a:latin typeface="Questrial"/>
                <a:ea typeface="Questrial"/>
              </a:rPr>
              <a:t>По месту в учебном плане и по содержанию курс ОРКСЭ служит важным связующим звеном между двумя этапами гуманитарного образования и воспитания школьников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34160" indent="-372600">
              <a:lnSpc>
                <a:spcPct val="100000"/>
              </a:lnSpc>
              <a:buClr>
                <a:srgbClr val="7e0f23"/>
              </a:buClr>
              <a:buFont typeface="Noto Symbol"/>
              <a:buChar char="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e0f23"/>
                </a:solidFill>
                <a:latin typeface="Questrial"/>
                <a:ea typeface="Questrial"/>
              </a:rPr>
              <a:t>Курс ОРКСЭ дополняет обществоведческие аспекты предмета «Окружающий мир», с которым знакомятся учащиеся основной школы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34160" indent="-372600">
              <a:lnSpc>
                <a:spcPct val="100000"/>
              </a:lnSpc>
              <a:buClr>
                <a:srgbClr val="7e0f23"/>
              </a:buClr>
              <a:buFont typeface="Noto Symbol"/>
              <a:buChar char="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e0f23"/>
                </a:solidFill>
                <a:latin typeface="Questrial"/>
                <a:ea typeface="Questrial"/>
              </a:rPr>
              <a:t>Курс ОРКСЭ предваряет начинающееся в 5 классе изучение предмета «История»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34160" indent="-372600">
              <a:lnSpc>
                <a:spcPct val="100000"/>
              </a:lnSpc>
              <a:buClr>
                <a:srgbClr val="7e0f23"/>
              </a:buClr>
              <a:buFont typeface="Questrial"/>
              <a:buChar char="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e0f23"/>
                </a:solidFill>
                <a:latin typeface="Questrial"/>
                <a:ea typeface="Questrial"/>
              </a:rPr>
              <a:t>Логическое продолжение курса ОРКСЭ учебный курс “Основы духовно-нравственной культуры народов России” на уровне основного общего образования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19" name="Shape 120" descr=""/>
          <p:cNvPicPr/>
          <p:nvPr/>
        </p:nvPicPr>
        <p:blipFill>
          <a:blip r:embed="rId1"/>
          <a:stretch/>
        </p:blipFill>
        <p:spPr>
          <a:xfrm>
            <a:off x="847800" y="42840"/>
            <a:ext cx="7845480" cy="6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855360" y="1579680"/>
            <a:ext cx="7831080" cy="51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e0f23"/>
                </a:solidFill>
                <a:latin typeface="Times New Roman"/>
                <a:ea typeface="Times New Roman"/>
              </a:rPr>
              <a:t>Приказ Минобрнауки России от 17.12.2010 № 1897 “Об утверждении федерального государственного образовательного стандарта основного общего образования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e0f23"/>
                </a:solidFill>
                <a:latin typeface="Times New Roman"/>
                <a:ea typeface="Times New Roman"/>
              </a:rPr>
              <a:t>Изучение предметной области "Основы духовно-нравственной культуры народов России" должно обеспечить: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e0f23"/>
                </a:solidFill>
                <a:latin typeface="Times New Roman"/>
                <a:ea typeface="Times New Roman"/>
              </a:rPr>
              <a:t>воспитание способности к духовному развитию, нравственному самосовершенствованию; воспитание веротерпимости, уважительного отношения к религиозным чувствам, взглядам людей или их отсутствию;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e0f23"/>
                </a:solidFill>
                <a:latin typeface="Times New Roman"/>
                <a:ea typeface="Times New Roman"/>
              </a:rPr>
              <a:t>знание основных норм морали, нравственных, духовных идеалов, хранимых в культурных традициях народов России, готовность на их основе к сознательному самоограничению в поступках, поведении, расточительном потребительстве;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e0f23"/>
                </a:solidFill>
                <a:latin typeface="Times New Roman"/>
                <a:ea typeface="Times New Roman"/>
              </a:rPr>
              <a:t>формирование представлений об основах светской этики, культуры традиционных религий, их роли в развитии культуры и истории России и человечества, в становлении гражданского общества и российской государственности;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e0f23"/>
                </a:solidFill>
                <a:latin typeface="Times New Roman"/>
                <a:ea typeface="Times New Roman"/>
              </a:rPr>
              <a:t>понимание значения нравственности, веры и религии в жизни человека, семьи и общества;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44784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e0f23"/>
                </a:solidFill>
                <a:latin typeface="Times New Roman"/>
                <a:ea typeface="Times New Roman"/>
              </a:rPr>
              <a:t>формирование представлений об исторической роли традиционных религий и гражданского общества в становлении российской государственности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621" name="Shape 127" descr=""/>
          <p:cNvPicPr/>
          <p:nvPr/>
        </p:nvPicPr>
        <p:blipFill>
          <a:blip r:embed="rId1"/>
          <a:stretch/>
        </p:blipFill>
        <p:spPr>
          <a:xfrm>
            <a:off x="847800" y="-92160"/>
            <a:ext cx="7845480" cy="8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Shape 168" descr=""/>
          <p:cNvPicPr/>
          <p:nvPr/>
        </p:nvPicPr>
        <p:blipFill>
          <a:blip r:embed="rId1"/>
          <a:stretch/>
        </p:blipFill>
        <p:spPr>
          <a:xfrm>
            <a:off x="1305000" y="189000"/>
            <a:ext cx="7845480" cy="89064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/>
          </p:nvPr>
        </p:nvSpPr>
        <p:spPr>
          <a:xfrm>
            <a:off x="205920" y="1041480"/>
            <a:ext cx="8937720" cy="846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 fontScale="90000"/>
          </a:bodyPr>
          <a:p>
            <a:pPr marL="411480" indent="-285480">
              <a:lnSpc>
                <a:spcPct val="115000"/>
              </a:lnSpc>
              <a:buClr>
                <a:srgbClr val="7e0f23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e0f23"/>
                </a:solidFill>
                <a:latin typeface="Lucida Sans Unicode"/>
              </a:rPr>
              <a:t>21 января 2015 года утвержден региональный ПЛАН </a:t>
            </a:r>
            <a:r>
              <a:rPr b="1" lang="en-US" sz="1400" spc="-1" strike="noStrike">
                <a:solidFill>
                  <a:srgbClr val="7e0f23"/>
                </a:solidFill>
                <a:latin typeface="Times New Roman"/>
                <a:ea typeface="Times New Roman"/>
              </a:rPr>
              <a:t>мероприятий по обеспечению свободного, добровольного, информированного выбора модулей комплексного учебного курса «Основы религиозных культур и светской этики»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624" name=""/>
          <p:cNvGraphicFramePr/>
          <p:nvPr/>
        </p:nvGraphicFramePr>
        <p:xfrm>
          <a:off x="241200" y="1876320"/>
          <a:ext cx="8707680" cy="4807080"/>
        </p:xfrm>
        <a:graphic>
          <a:graphicData uri="http://schemas.openxmlformats.org/drawingml/2006/table">
            <a:tbl>
              <a:tblPr/>
              <a:tblGrid>
                <a:gridCol w="480960"/>
                <a:gridCol w="1451160"/>
                <a:gridCol w="1793880"/>
                <a:gridCol w="2500200"/>
                <a:gridCol w="2481480"/>
              </a:tblGrid>
              <a:tr h="365400">
                <a:tc rowSpan="2">
                  <a:txBody>
                    <a:bodyPr lIns="68400" rIns="68400" tIns="91440" bIns="91440" anchor="t">
                      <a:noAutofit/>
                    </a:bodyPr>
                    <a:p>
                      <a:pPr marL="63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91440" bIns="91440" anchor="t">
                      <a:noAutofit/>
                    </a:bodyPr>
                    <a:p>
                      <a:pPr marL="63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я деятель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400" rIns="68400" tIns="91440" bIns="91440" anchor="t">
                      <a:noAutofit/>
                    </a:bodyPr>
                    <a:p>
                      <a:pPr marL="63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91440" bIns="91440" anchor="t">
                      <a:noAutofit/>
                    </a:bodyPr>
                    <a:p>
                      <a:pPr marL="63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91440" bIns="91440" anchor="t">
                      <a:noAutofit/>
                    </a:bodyPr>
                    <a:p>
                      <a:pPr marL="63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учредителя образовательной организации / Муниципальный уров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91440" bIns="91440" anchor="t">
                      <a:noAutofit/>
                    </a:bodyPr>
                    <a:p>
                      <a:pPr marL="63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образовательной организа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6240">
                <a:tc rowSpan="3">
                  <a:txBody>
                    <a:bodyPr lIns="68400" rIns="68400" tIns="91440" bIns="91440" anchor="t">
                      <a:noAutofit/>
                    </a:bodyPr>
                    <a:p>
                      <a:pPr marL="6336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400" rIns="68400" tIns="91440" bIns="91440" anchor="t">
                      <a:noAutofit/>
                    </a:bodyPr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 по ознакомлению с содержанием моду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ного учебного курса ОРКСЭ участников образовательных отношени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91440" bIns="91440" anchor="t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щение информации о содержании модулей комплексного учебного курса ОРКСЭ в региональных С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91440" bIns="91440" anchor="t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щение информации о содержании модулей комплексного учебного курса ОРКСЭ в территориальных С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91440" bIns="91440" anchor="t">
                      <a:noAutofit/>
                    </a:bodyPr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ние дополнительного раздела на официальном сайте ОО по вопросам реализации комплексного учебного курса ОРКС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91440" bIns="91440" anchor="t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91440" bIns="91440" anchor="t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щение на официальных сайтах МОУО образовательных рекламных проектов с целью ознакомления с содержанием комплексного учебного курса ОРКС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91440" bIns="91440" anchor="t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образовательных рекламных проектов с целью ознакомления с содержанием комплексного учебного курса ОРКС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9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91440" bIns="91440" anchor="t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91440" bIns="91440" anchor="t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ирование о проведении презентационные мероприятий о содержании и организации реализации комплексного учебного курса ОРКСЭ в муниципальных О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91440" bIns="91440" anchor="t">
                      <a:noAutofit/>
                    </a:bodyPr>
                    <a:p>
                      <a:pPr marL="6336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зентационные открытые уроки по модулям комплексного учебного курса ОРКС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3360"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Shape 183" descr=""/>
          <p:cNvPicPr/>
          <p:nvPr/>
        </p:nvPicPr>
        <p:blipFill>
          <a:blip r:embed="rId1"/>
          <a:stretch/>
        </p:blipFill>
        <p:spPr>
          <a:xfrm>
            <a:off x="1305000" y="189000"/>
            <a:ext cx="7845480" cy="1176120"/>
          </a:xfrm>
          <a:prstGeom prst="rect">
            <a:avLst/>
          </a:prstGeom>
          <a:ln w="0">
            <a:noFill/>
          </a:ln>
        </p:spPr>
      </p:pic>
      <p:pic>
        <p:nvPicPr>
          <p:cNvPr id="626" name="Shape 184" descr=""/>
          <p:cNvPicPr/>
          <p:nvPr/>
        </p:nvPicPr>
        <p:blipFill>
          <a:blip r:embed="rId2"/>
          <a:stretch/>
        </p:blipFill>
        <p:spPr>
          <a:xfrm>
            <a:off x="403200" y="1076400"/>
            <a:ext cx="7267680" cy="55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Shape 190" descr=""/>
          <p:cNvPicPr/>
          <p:nvPr/>
        </p:nvPicPr>
        <p:blipFill>
          <a:blip r:embed="rId1"/>
          <a:stretch/>
        </p:blipFill>
        <p:spPr>
          <a:xfrm>
            <a:off x="1305000" y="208080"/>
            <a:ext cx="7845480" cy="474480"/>
          </a:xfrm>
          <a:prstGeom prst="rect">
            <a:avLst/>
          </a:prstGeom>
          <a:ln w="0">
            <a:noFill/>
          </a:ln>
        </p:spPr>
      </p:pic>
      <p:sp>
        <p:nvSpPr>
          <p:cNvPr id="628" name="Shape 191"/>
          <p:cNvSpPr/>
          <p:nvPr/>
        </p:nvSpPr>
        <p:spPr>
          <a:xfrm>
            <a:off x="68400" y="674640"/>
            <a:ext cx="8937360" cy="59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ректор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го общеобразователь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ре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живающих(его) по адрес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, родители (законные представители) учащегося ______ «____» класса __________________________(Ф.И. ребёнка), из предлагаемых на выбор модулей комплексного учебного курса «Основы религиозных культур и светской этики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новы православной культуры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новы исламской культуры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новы буддийской культуры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новы иудейской культуры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новы мировых религиозных культур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сновы светской этик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ираем для своего ребёнка изучение модуля: ___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«___» _________________ 20___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 (Ф.И.О.) 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пис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 (Ф.И.О.) ___________________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Shape 208" descr=""/>
          <p:cNvPicPr/>
          <p:nvPr/>
        </p:nvPicPr>
        <p:blipFill>
          <a:blip r:embed="rId1"/>
          <a:stretch/>
        </p:blipFill>
        <p:spPr>
          <a:xfrm rot="538800">
            <a:off x="5614560" y="891720"/>
            <a:ext cx="1249560" cy="195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0" name="Shape 209" descr=""/>
          <p:cNvPicPr/>
          <p:nvPr/>
        </p:nvPicPr>
        <p:blipFill>
          <a:blip r:embed="rId2"/>
          <a:stretch/>
        </p:blipFill>
        <p:spPr>
          <a:xfrm rot="127800">
            <a:off x="4215960" y="830160"/>
            <a:ext cx="1279440" cy="185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31" name="Shape 210" descr=""/>
          <p:cNvPicPr/>
          <p:nvPr/>
        </p:nvPicPr>
        <p:blipFill>
          <a:blip r:embed="rId3"/>
          <a:srcRect l="7496" t="0" r="5001" b="2089"/>
          <a:stretch/>
        </p:blipFill>
        <p:spPr>
          <a:xfrm rot="764400">
            <a:off x="6948360" y="1182240"/>
            <a:ext cx="1555920" cy="1989360"/>
          </a:xfrm>
          <a:prstGeom prst="rect">
            <a:avLst/>
          </a:prstGeom>
          <a:ln w="0">
            <a:noFill/>
          </a:ln>
        </p:spPr>
      </p:pic>
      <p:pic>
        <p:nvPicPr>
          <p:cNvPr id="632" name="Shape 211" descr=""/>
          <p:cNvPicPr/>
          <p:nvPr/>
        </p:nvPicPr>
        <p:blipFill>
          <a:blip r:embed="rId4"/>
          <a:stretch/>
        </p:blipFill>
        <p:spPr>
          <a:xfrm rot="21352800">
            <a:off x="2827440" y="863640"/>
            <a:ext cx="1384200" cy="1835280"/>
          </a:xfrm>
          <a:prstGeom prst="rect">
            <a:avLst/>
          </a:prstGeom>
          <a:ln w="0">
            <a:noFill/>
          </a:ln>
        </p:spPr>
      </p:pic>
      <p:pic>
        <p:nvPicPr>
          <p:cNvPr id="633" name="Shape 212" descr=""/>
          <p:cNvPicPr/>
          <p:nvPr/>
        </p:nvPicPr>
        <p:blipFill>
          <a:blip r:embed="rId5"/>
          <a:stretch/>
        </p:blipFill>
        <p:spPr>
          <a:xfrm rot="20995800">
            <a:off x="1487160" y="985320"/>
            <a:ext cx="1384200" cy="1887840"/>
          </a:xfrm>
          <a:prstGeom prst="rect">
            <a:avLst/>
          </a:prstGeom>
          <a:ln w="0">
            <a:noFill/>
          </a:ln>
        </p:spPr>
      </p:pic>
      <p:pic>
        <p:nvPicPr>
          <p:cNvPr id="634" name="Shape 213" descr=""/>
          <p:cNvPicPr/>
          <p:nvPr/>
        </p:nvPicPr>
        <p:blipFill>
          <a:blip r:embed="rId6"/>
          <a:stretch/>
        </p:blipFill>
        <p:spPr>
          <a:xfrm rot="20064600">
            <a:off x="307440" y="1643040"/>
            <a:ext cx="1384560" cy="1814400"/>
          </a:xfrm>
          <a:prstGeom prst="rect">
            <a:avLst/>
          </a:prstGeom>
          <a:ln w="0">
            <a:noFill/>
          </a:ln>
        </p:spPr>
      </p:pic>
      <p:pic>
        <p:nvPicPr>
          <p:cNvPr id="635" name="Shape 214" descr=""/>
          <p:cNvPicPr/>
          <p:nvPr/>
        </p:nvPicPr>
        <p:blipFill>
          <a:blip r:embed="rId7"/>
          <a:stretch/>
        </p:blipFill>
        <p:spPr>
          <a:xfrm rot="20019600">
            <a:off x="320400" y="3177720"/>
            <a:ext cx="1317600" cy="1755720"/>
          </a:xfrm>
          <a:prstGeom prst="rect">
            <a:avLst/>
          </a:prstGeom>
          <a:ln w="0">
            <a:noFill/>
          </a:ln>
        </p:spPr>
      </p:pic>
      <p:pic>
        <p:nvPicPr>
          <p:cNvPr id="636" name="Shape 215" descr=""/>
          <p:cNvPicPr/>
          <p:nvPr/>
        </p:nvPicPr>
        <p:blipFill>
          <a:blip r:embed="rId8"/>
          <a:stretch/>
        </p:blipFill>
        <p:spPr>
          <a:xfrm>
            <a:off x="1305000" y="208080"/>
            <a:ext cx="7845480" cy="779400"/>
          </a:xfrm>
          <a:prstGeom prst="rect">
            <a:avLst/>
          </a:prstGeom>
          <a:ln w="0">
            <a:noFill/>
          </a:ln>
        </p:spPr>
      </p:pic>
      <p:pic>
        <p:nvPicPr>
          <p:cNvPr id="637" name="Shape 217" descr=""/>
          <p:cNvPicPr/>
          <p:nvPr/>
        </p:nvPicPr>
        <p:blipFill>
          <a:blip r:embed="rId9"/>
          <a:stretch/>
        </p:blipFill>
        <p:spPr>
          <a:xfrm rot="825600">
            <a:off x="7195680" y="2400480"/>
            <a:ext cx="1735200" cy="2252520"/>
          </a:xfrm>
          <a:prstGeom prst="rect">
            <a:avLst/>
          </a:prstGeom>
          <a:ln w="9360">
            <a:solidFill>
              <a:srgbClr val="ff0000"/>
            </a:solidFill>
            <a:round/>
          </a:ln>
        </p:spPr>
      </p:pic>
      <p:pic>
        <p:nvPicPr>
          <p:cNvPr id="638" name="Shape 218" descr=""/>
          <p:cNvPicPr/>
          <p:nvPr/>
        </p:nvPicPr>
        <p:blipFill>
          <a:blip r:embed="rId10"/>
          <a:stretch/>
        </p:blipFill>
        <p:spPr>
          <a:xfrm rot="1362600">
            <a:off x="7140600" y="4118040"/>
            <a:ext cx="1846080" cy="2400120"/>
          </a:xfrm>
          <a:prstGeom prst="rect">
            <a:avLst/>
          </a:prstGeom>
          <a:ln w="0">
            <a:noFill/>
          </a:ln>
        </p:spPr>
      </p:pic>
      <p:pic>
        <p:nvPicPr>
          <p:cNvPr id="639" name="Shape 219" descr=""/>
          <p:cNvPicPr/>
          <p:nvPr/>
        </p:nvPicPr>
        <p:blipFill>
          <a:blip r:embed="rId11"/>
          <a:srcRect l="15004" t="2617" r="15004" b="10840"/>
          <a:stretch/>
        </p:blipFill>
        <p:spPr>
          <a:xfrm rot="20356800">
            <a:off x="339840" y="4502160"/>
            <a:ext cx="1465200" cy="2166840"/>
          </a:xfrm>
          <a:prstGeom prst="rect">
            <a:avLst/>
          </a:prstGeom>
          <a:ln w="0">
            <a:noFill/>
          </a:ln>
        </p:spPr>
      </p:pic>
      <p:sp>
        <p:nvSpPr>
          <p:cNvPr id="640" name="Shape 220"/>
          <p:cNvSpPr/>
          <p:nvPr/>
        </p:nvSpPr>
        <p:spPr>
          <a:xfrm>
            <a:off x="1333440" y="2300400"/>
            <a:ext cx="6969240" cy="42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91440" bIns="9144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51c75"/>
                </a:solidFill>
                <a:latin typeface="Times New Roman"/>
                <a:ea typeface="Times New Roman"/>
              </a:rPr>
              <a:t>В федеральном перечне по модулям ОРКСЭ представлены учебники восьми издательст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3"/>
              </a:spcBef>
              <a:buClr>
                <a:srgbClr val="351c7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51c75"/>
                </a:solidFill>
                <a:latin typeface="Times New Roman"/>
                <a:ea typeface="Times New Roman"/>
              </a:rPr>
              <a:t>ДРОФ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3"/>
              </a:spcBef>
              <a:buClr>
                <a:srgbClr val="351c7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51c75"/>
                </a:solidFill>
                <a:latin typeface="Times New Roman"/>
                <a:ea typeface="Times New Roman"/>
              </a:rPr>
              <a:t>Академкнига/Учебни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3"/>
              </a:spcBef>
              <a:buClr>
                <a:srgbClr val="351c7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51c75"/>
                </a:solidFill>
                <a:latin typeface="Times New Roman"/>
                <a:ea typeface="Times New Roman"/>
              </a:rPr>
              <a:t>ВЕНТАНА-ГРА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3"/>
              </a:spcBef>
              <a:buClr>
                <a:srgbClr val="351c7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51c75"/>
                </a:solidFill>
                <a:latin typeface="Times New Roman"/>
                <a:ea typeface="Times New Roman"/>
              </a:rPr>
              <a:t>Ассоциация XXI ве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3"/>
              </a:spcBef>
              <a:buClr>
                <a:srgbClr val="351c7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51c75"/>
                </a:solidFill>
                <a:latin typeface="Times New Roman"/>
                <a:ea typeface="Times New Roman"/>
              </a:rPr>
              <a:t>Просвеще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3"/>
              </a:spcBef>
              <a:buClr>
                <a:srgbClr val="351c7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51c75"/>
                </a:solidFill>
                <a:latin typeface="Times New Roman"/>
                <a:ea typeface="Times New Roman"/>
              </a:rPr>
              <a:t>Астрел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3"/>
              </a:spcBef>
              <a:buClr>
                <a:srgbClr val="351c7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51c75"/>
                </a:solidFill>
                <a:latin typeface="Times New Roman"/>
                <a:ea typeface="Times New Roman"/>
              </a:rPr>
              <a:t>Русское сло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63"/>
              </a:spcBef>
              <a:buClr>
                <a:srgbClr val="351c7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51c75"/>
                </a:solidFill>
                <a:latin typeface="Times New Roman"/>
                <a:ea typeface="Times New Roman"/>
              </a:rPr>
              <a:t>Центр поддержки культурно-исторических традиций Отеч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оутбук</dc:creator>
  <dc:description/>
  <dc:language>en-US</dc:language>
  <cp:lastModifiedBy>2013</cp:lastModifiedBy>
  <dcterms:modified xsi:type="dcterms:W3CDTF">2016-09-29T09:47:14Z</dcterms:modified>
  <cp:revision>2</cp:revision>
  <dc:subject/>
  <dc:title>Организация изучения комплексного учебного курса “Основы религиозных культур и светской этики в общеобразовательных учреждениях Свердловской области</dc:title>
</cp:coreProperties>
</file>